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90D-ADB6-439B-AF83-70CECDDB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DFB-BE20-4316-86F0-D13C75FC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2E6-D0E7-440D-99FA-CD94353F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728-F12D-4CEA-AFCD-4935E590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FF4-AB17-4502-8753-268F1031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03F-FC1A-4913-80D9-AC9806D4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52D-43EB-4E99-84C3-0B827F0A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CC2-F521-4309-AE58-C6A00DBD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45A-E445-4BF2-B8B0-FEC06280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44F-ABF6-4A57-8860-E537E68A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DC7-5630-470A-AAF8-EB796ECB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10D-1473-470A-A88E-014459C6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5325-046E-403A-B245-939E014C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x 5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9 x 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12 x 1  4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8880" y="6099120"/>
            <a:ext cx="144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2108" y="16966"/>
                </a:moveTo>
                <a:cubicBezTo>
                  <a:pt x="2108" y="16958"/>
                  <a:pt x="2108" y="16950"/>
                  <a:pt x="2108" y="169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6040" y="1704960"/>
            <a:ext cx="973080" cy="233280"/>
          </a:xfrm>
          <a:custGeom>
            <a:avLst/>
            <a:gdLst/>
            <a:ahLst/>
            <a:rect l="l" t="t" r="r" b="b"/>
            <a:pathLst>
              <a:path w="2704" h="646">
                <a:moveTo>
                  <a:pt x="4514" y="5383"/>
                </a:moveTo>
                <a:cubicBezTo>
                  <a:pt x="4507" y="5353"/>
                  <a:pt x="4466" y="5355"/>
                  <a:pt x="4514" y="5283"/>
                </a:cubicBezTo>
                <a:cubicBezTo>
                  <a:pt x="4553" y="5225"/>
                  <a:pt x="4578" y="5194"/>
                  <a:pt x="4638" y="5159"/>
                </a:cubicBezTo>
                <a:cubicBezTo>
                  <a:pt x="4699" y="5124"/>
                  <a:pt x="4750" y="5066"/>
                  <a:pt x="4812" y="5035"/>
                </a:cubicBezTo>
                <a:cubicBezTo>
                  <a:pt x="4891" y="4996"/>
                  <a:pt x="4978" y="4945"/>
                  <a:pt x="5060" y="4911"/>
                </a:cubicBezTo>
                <a:cubicBezTo>
                  <a:pt x="5173" y="4865"/>
                  <a:pt x="5272" y="4838"/>
                  <a:pt x="5383" y="4812"/>
                </a:cubicBezTo>
                <a:cubicBezTo>
                  <a:pt x="5467" y="4792"/>
                  <a:pt x="5545" y="4771"/>
                  <a:pt x="5631" y="4762"/>
                </a:cubicBezTo>
                <a:cubicBezTo>
                  <a:pt x="5686" y="4756"/>
                  <a:pt x="5808" y="4734"/>
                  <a:pt x="5854" y="4738"/>
                </a:cubicBezTo>
                <a:cubicBezTo>
                  <a:pt x="5954" y="4746"/>
                  <a:pt x="6045" y="4738"/>
                  <a:pt x="6152" y="4738"/>
                </a:cubicBezTo>
                <a:cubicBezTo>
                  <a:pt x="6231" y="4738"/>
                  <a:pt x="6298" y="4757"/>
                  <a:pt x="6375" y="4762"/>
                </a:cubicBezTo>
                <a:cubicBezTo>
                  <a:pt x="6454" y="4767"/>
                  <a:pt x="6523" y="4770"/>
                  <a:pt x="6598" y="4787"/>
                </a:cubicBezTo>
                <a:cubicBezTo>
                  <a:pt x="6672" y="4804"/>
                  <a:pt x="6728" y="4828"/>
                  <a:pt x="6796" y="4862"/>
                </a:cubicBezTo>
                <a:cubicBezTo>
                  <a:pt x="6873" y="4900"/>
                  <a:pt x="6918" y="4956"/>
                  <a:pt x="6995" y="5011"/>
                </a:cubicBezTo>
                <a:cubicBezTo>
                  <a:pt x="7048" y="5049"/>
                  <a:pt x="7015" y="5048"/>
                  <a:pt x="7045" y="5085"/>
                </a:cubicBezTo>
                <a:cubicBezTo>
                  <a:pt x="7062" y="5106"/>
                  <a:pt x="7108" y="5145"/>
                  <a:pt x="7119" y="5159"/>
                </a:cubicBezTo>
                <a:cubicBezTo>
                  <a:pt x="7134" y="5180"/>
                  <a:pt x="7154" y="5224"/>
                  <a:pt x="7169" y="5234"/>
                </a:cubicBezTo>
                <a:cubicBezTo>
                  <a:pt x="7177" y="5234"/>
                  <a:pt x="7185" y="5234"/>
                  <a:pt x="7193" y="52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10040" y="1893960"/>
            <a:ext cx="303120" cy="312840"/>
          </a:xfrm>
          <a:custGeom>
            <a:avLst/>
            <a:gdLst/>
            <a:ahLst/>
            <a:rect l="l" t="t" r="r" b="b"/>
            <a:pathLst>
              <a:path w="845" h="869">
                <a:moveTo>
                  <a:pt x="11137" y="5358"/>
                </a:moveTo>
                <a:cubicBezTo>
                  <a:pt x="11137" y="5566"/>
                  <a:pt x="11158" y="5770"/>
                  <a:pt x="11162" y="5978"/>
                </a:cubicBezTo>
                <a:cubicBezTo>
                  <a:pt x="11164" y="6076"/>
                  <a:pt x="11133" y="6167"/>
                  <a:pt x="11187" y="6077"/>
                </a:cubicBezTo>
              </a:path>
              <a:path w="845" h="869">
                <a:moveTo>
                  <a:pt x="11633" y="5283"/>
                </a:moveTo>
                <a:cubicBezTo>
                  <a:pt x="11508" y="5325"/>
                  <a:pt x="11433" y="5528"/>
                  <a:pt x="11410" y="5655"/>
                </a:cubicBezTo>
                <a:cubicBezTo>
                  <a:pt x="11372" y="5869"/>
                  <a:pt x="11467" y="6080"/>
                  <a:pt x="11708" y="6003"/>
                </a:cubicBezTo>
                <a:cubicBezTo>
                  <a:pt x="11939" y="5929"/>
                  <a:pt x="12022" y="5581"/>
                  <a:pt x="11931" y="5383"/>
                </a:cubicBezTo>
                <a:cubicBezTo>
                  <a:pt x="11861" y="5232"/>
                  <a:pt x="11704" y="5278"/>
                  <a:pt x="11584" y="528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3160" y="2320920"/>
            <a:ext cx="1098720" cy="223920"/>
          </a:xfrm>
          <a:custGeom>
            <a:avLst/>
            <a:gdLst/>
            <a:ahLst/>
            <a:rect l="l" t="t" r="r" b="b"/>
            <a:pathLst>
              <a:path w="3052" h="621">
                <a:moveTo>
                  <a:pt x="5482" y="6648"/>
                </a:moveTo>
                <a:cubicBezTo>
                  <a:pt x="5524" y="6710"/>
                  <a:pt x="5584" y="6797"/>
                  <a:pt x="5655" y="6846"/>
                </a:cubicBezTo>
                <a:cubicBezTo>
                  <a:pt x="5776" y="6929"/>
                  <a:pt x="5962" y="7009"/>
                  <a:pt x="6102" y="7045"/>
                </a:cubicBezTo>
                <a:cubicBezTo>
                  <a:pt x="6297" y="7095"/>
                  <a:pt x="6548" y="7084"/>
                  <a:pt x="6747" y="7069"/>
                </a:cubicBezTo>
                <a:cubicBezTo>
                  <a:pt x="6943" y="7054"/>
                  <a:pt x="7176" y="7041"/>
                  <a:pt x="7367" y="6995"/>
                </a:cubicBezTo>
                <a:cubicBezTo>
                  <a:pt x="7516" y="6959"/>
                  <a:pt x="7695" y="6927"/>
                  <a:pt x="7838" y="6871"/>
                </a:cubicBezTo>
                <a:cubicBezTo>
                  <a:pt x="7959" y="6824"/>
                  <a:pt x="8077" y="6767"/>
                  <a:pt x="8186" y="6697"/>
                </a:cubicBezTo>
                <a:cubicBezTo>
                  <a:pt x="8282" y="6636"/>
                  <a:pt x="8342" y="6534"/>
                  <a:pt x="8434" y="6474"/>
                </a:cubicBezTo>
                <a:cubicBezTo>
                  <a:pt x="8459" y="6458"/>
                  <a:pt x="8441" y="6474"/>
                  <a:pt x="8533" y="647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67120" y="1758960"/>
            <a:ext cx="1928880" cy="785880"/>
          </a:xfrm>
          <a:custGeom>
            <a:avLst/>
            <a:gdLst/>
            <a:ahLst/>
            <a:rect l="l" t="t" r="r" b="b"/>
            <a:pathLst>
              <a:path w="5359" h="2183">
                <a:moveTo>
                  <a:pt x="10740" y="6276"/>
                </a:moveTo>
                <a:cubicBezTo>
                  <a:pt x="10841" y="6300"/>
                  <a:pt x="10948" y="6300"/>
                  <a:pt x="11063" y="6300"/>
                </a:cubicBezTo>
                <a:cubicBezTo>
                  <a:pt x="11315" y="6300"/>
                  <a:pt x="11581" y="6297"/>
                  <a:pt x="11832" y="6276"/>
                </a:cubicBezTo>
                <a:cubicBezTo>
                  <a:pt x="11928" y="6268"/>
                  <a:pt x="12010" y="6251"/>
                  <a:pt x="12105" y="6251"/>
                </a:cubicBezTo>
              </a:path>
              <a:path w="5359" h="2183">
                <a:moveTo>
                  <a:pt x="11013" y="6548"/>
                </a:moveTo>
                <a:cubicBezTo>
                  <a:pt x="11133" y="6533"/>
                  <a:pt x="11190" y="6510"/>
                  <a:pt x="11311" y="6573"/>
                </a:cubicBezTo>
                <a:cubicBezTo>
                  <a:pt x="11439" y="6639"/>
                  <a:pt x="11466" y="6777"/>
                  <a:pt x="11385" y="6896"/>
                </a:cubicBezTo>
                <a:cubicBezTo>
                  <a:pt x="11303" y="7017"/>
                  <a:pt x="11128" y="7071"/>
                  <a:pt x="11013" y="6970"/>
                </a:cubicBezTo>
                <a:cubicBezTo>
                  <a:pt x="10991" y="6927"/>
                  <a:pt x="10987" y="6916"/>
                  <a:pt x="10964" y="6896"/>
                </a:cubicBezTo>
                <a:cubicBezTo>
                  <a:pt x="11011" y="6801"/>
                  <a:pt x="11136" y="6801"/>
                  <a:pt x="11237" y="6796"/>
                </a:cubicBezTo>
                <a:cubicBezTo>
                  <a:pt x="11369" y="6789"/>
                  <a:pt x="11416" y="6828"/>
                  <a:pt x="11485" y="6921"/>
                </a:cubicBezTo>
                <a:cubicBezTo>
                  <a:pt x="11493" y="6929"/>
                  <a:pt x="11501" y="6937"/>
                  <a:pt x="11509" y="6945"/>
                </a:cubicBezTo>
              </a:path>
              <a:path w="5359" h="2183">
                <a:moveTo>
                  <a:pt x="11683" y="6548"/>
                </a:moveTo>
                <a:cubicBezTo>
                  <a:pt x="11683" y="6639"/>
                  <a:pt x="11683" y="6730"/>
                  <a:pt x="11683" y="6821"/>
                </a:cubicBezTo>
                <a:cubicBezTo>
                  <a:pt x="11810" y="6821"/>
                  <a:pt x="11931" y="6804"/>
                  <a:pt x="12055" y="6772"/>
                </a:cubicBezTo>
                <a:cubicBezTo>
                  <a:pt x="12112" y="6753"/>
                  <a:pt x="12119" y="6744"/>
                  <a:pt x="12154" y="6747"/>
                </a:cubicBezTo>
              </a:path>
              <a:path w="5359" h="2183">
                <a:moveTo>
                  <a:pt x="12080" y="6400"/>
                </a:moveTo>
                <a:cubicBezTo>
                  <a:pt x="12036" y="6543"/>
                  <a:pt x="12076" y="6673"/>
                  <a:pt x="12105" y="6821"/>
                </a:cubicBezTo>
                <a:cubicBezTo>
                  <a:pt x="12122" y="6911"/>
                  <a:pt x="12159" y="6990"/>
                  <a:pt x="12179" y="7069"/>
                </a:cubicBezTo>
              </a:path>
              <a:path w="5359" h="2183">
                <a:moveTo>
                  <a:pt x="12402" y="5556"/>
                </a:moveTo>
                <a:cubicBezTo>
                  <a:pt x="12394" y="5556"/>
                  <a:pt x="12386" y="5556"/>
                  <a:pt x="12378" y="5556"/>
                </a:cubicBezTo>
                <a:cubicBezTo>
                  <a:pt x="12418" y="5546"/>
                  <a:pt x="12490" y="5526"/>
                  <a:pt x="12526" y="5507"/>
                </a:cubicBezTo>
                <a:cubicBezTo>
                  <a:pt x="12534" y="5499"/>
                  <a:pt x="12543" y="5490"/>
                  <a:pt x="12551" y="5482"/>
                </a:cubicBezTo>
              </a:path>
              <a:path w="5359" h="2183">
                <a:moveTo>
                  <a:pt x="12402" y="5283"/>
                </a:moveTo>
                <a:lnTo>
                  <a:pt x="12402" y="5283"/>
                </a:lnTo>
              </a:path>
              <a:path w="5359" h="2183">
                <a:moveTo>
                  <a:pt x="12502" y="5730"/>
                </a:moveTo>
                <a:lnTo>
                  <a:pt x="12502" y="5730"/>
                </a:lnTo>
                <a:lnTo>
                  <a:pt x="12502" y="5730"/>
                </a:lnTo>
              </a:path>
              <a:path w="5359" h="2183">
                <a:moveTo>
                  <a:pt x="12750" y="5234"/>
                </a:moveTo>
                <a:cubicBezTo>
                  <a:pt x="12750" y="5207"/>
                  <a:pt x="12829" y="5140"/>
                  <a:pt x="12898" y="5184"/>
                </a:cubicBezTo>
                <a:cubicBezTo>
                  <a:pt x="12980" y="5236"/>
                  <a:pt x="12874" y="5386"/>
                  <a:pt x="12849" y="5432"/>
                </a:cubicBezTo>
                <a:cubicBezTo>
                  <a:pt x="12841" y="5449"/>
                  <a:pt x="12832" y="5465"/>
                  <a:pt x="12824" y="5482"/>
                </a:cubicBezTo>
                <a:cubicBezTo>
                  <a:pt x="12901" y="5529"/>
                  <a:pt x="12936" y="5479"/>
                  <a:pt x="13022" y="5457"/>
                </a:cubicBezTo>
                <a:cubicBezTo>
                  <a:pt x="13030" y="5457"/>
                  <a:pt x="13039" y="5457"/>
                  <a:pt x="13047" y="5457"/>
                </a:cubicBezTo>
              </a:path>
              <a:path w="5359" h="2183">
                <a:moveTo>
                  <a:pt x="12576" y="6772"/>
                </a:moveTo>
                <a:cubicBezTo>
                  <a:pt x="12626" y="6772"/>
                  <a:pt x="12675" y="6772"/>
                  <a:pt x="12725" y="6772"/>
                </a:cubicBezTo>
              </a:path>
              <a:path w="5359" h="2183">
                <a:moveTo>
                  <a:pt x="12601" y="6573"/>
                </a:moveTo>
                <a:cubicBezTo>
                  <a:pt x="12601" y="6581"/>
                  <a:pt x="12601" y="6590"/>
                  <a:pt x="12601" y="6598"/>
                </a:cubicBezTo>
              </a:path>
              <a:path w="5359" h="2183">
                <a:moveTo>
                  <a:pt x="12626" y="6995"/>
                </a:moveTo>
                <a:cubicBezTo>
                  <a:pt x="12626" y="7003"/>
                  <a:pt x="12626" y="7012"/>
                  <a:pt x="12626" y="7020"/>
                </a:cubicBezTo>
              </a:path>
              <a:path w="5359" h="2183">
                <a:moveTo>
                  <a:pt x="12973" y="6623"/>
                </a:moveTo>
                <a:cubicBezTo>
                  <a:pt x="13014" y="6605"/>
                  <a:pt x="13176" y="6508"/>
                  <a:pt x="13221" y="6548"/>
                </a:cubicBezTo>
                <a:cubicBezTo>
                  <a:pt x="13325" y="6640"/>
                  <a:pt x="13190" y="6827"/>
                  <a:pt x="13146" y="6896"/>
                </a:cubicBezTo>
                <a:cubicBezTo>
                  <a:pt x="13109" y="6952"/>
                  <a:pt x="13092" y="6956"/>
                  <a:pt x="13097" y="6995"/>
                </a:cubicBezTo>
                <a:cubicBezTo>
                  <a:pt x="13181" y="6985"/>
                  <a:pt x="13269" y="6965"/>
                  <a:pt x="13345" y="6921"/>
                </a:cubicBezTo>
                <a:cubicBezTo>
                  <a:pt x="13370" y="6904"/>
                  <a:pt x="13394" y="6888"/>
                  <a:pt x="13419" y="6871"/>
                </a:cubicBezTo>
              </a:path>
              <a:path w="5359" h="2183">
                <a:moveTo>
                  <a:pt x="13891" y="5978"/>
                </a:moveTo>
                <a:cubicBezTo>
                  <a:pt x="13977" y="5966"/>
                  <a:pt x="14052" y="5953"/>
                  <a:pt x="14139" y="5953"/>
                </a:cubicBezTo>
              </a:path>
              <a:path w="5359" h="2183">
                <a:moveTo>
                  <a:pt x="13990" y="6152"/>
                </a:moveTo>
                <a:cubicBezTo>
                  <a:pt x="14092" y="6152"/>
                  <a:pt x="14150" y="6125"/>
                  <a:pt x="14238" y="6077"/>
                </a:cubicBezTo>
              </a:path>
              <a:path w="5359" h="2183">
                <a:moveTo>
                  <a:pt x="15180" y="4887"/>
                </a:moveTo>
                <a:cubicBezTo>
                  <a:pt x="15092" y="4904"/>
                  <a:pt x="14993" y="4953"/>
                  <a:pt x="14908" y="4986"/>
                </a:cubicBezTo>
                <a:cubicBezTo>
                  <a:pt x="14833" y="5015"/>
                  <a:pt x="14819" y="5016"/>
                  <a:pt x="14808" y="5110"/>
                </a:cubicBezTo>
                <a:cubicBezTo>
                  <a:pt x="14800" y="5179"/>
                  <a:pt x="14789" y="5285"/>
                  <a:pt x="14808" y="5333"/>
                </a:cubicBezTo>
                <a:cubicBezTo>
                  <a:pt x="14897" y="5274"/>
                  <a:pt x="15023" y="5245"/>
                  <a:pt x="15131" y="5234"/>
                </a:cubicBezTo>
                <a:cubicBezTo>
                  <a:pt x="15211" y="5226"/>
                  <a:pt x="15399" y="5249"/>
                  <a:pt x="15354" y="5383"/>
                </a:cubicBezTo>
                <a:cubicBezTo>
                  <a:pt x="15304" y="5532"/>
                  <a:pt x="15159" y="5544"/>
                  <a:pt x="15032" y="5581"/>
                </a:cubicBezTo>
              </a:path>
              <a:path w="5359" h="2183">
                <a:moveTo>
                  <a:pt x="14808" y="6052"/>
                </a:moveTo>
                <a:cubicBezTo>
                  <a:pt x="14967" y="6030"/>
                  <a:pt x="15122" y="5982"/>
                  <a:pt x="15280" y="5953"/>
                </a:cubicBezTo>
                <a:cubicBezTo>
                  <a:pt x="15337" y="5942"/>
                  <a:pt x="15653" y="5856"/>
                  <a:pt x="15701" y="5904"/>
                </a:cubicBezTo>
                <a:cubicBezTo>
                  <a:pt x="15701" y="5912"/>
                  <a:pt x="15701" y="5920"/>
                  <a:pt x="15701" y="5928"/>
                </a:cubicBezTo>
              </a:path>
              <a:path w="5359" h="2183">
                <a:moveTo>
                  <a:pt x="14932" y="6400"/>
                </a:moveTo>
                <a:cubicBezTo>
                  <a:pt x="14980" y="6510"/>
                  <a:pt x="15004" y="6629"/>
                  <a:pt x="15032" y="6747"/>
                </a:cubicBezTo>
                <a:cubicBezTo>
                  <a:pt x="15049" y="6816"/>
                  <a:pt x="15056" y="6837"/>
                  <a:pt x="15056" y="6896"/>
                </a:cubicBezTo>
              </a:path>
              <a:path w="5359" h="2183">
                <a:moveTo>
                  <a:pt x="15429" y="6499"/>
                </a:moveTo>
                <a:cubicBezTo>
                  <a:pt x="15459" y="6422"/>
                  <a:pt x="15539" y="6366"/>
                  <a:pt x="15627" y="6350"/>
                </a:cubicBezTo>
                <a:cubicBezTo>
                  <a:pt x="15695" y="6350"/>
                  <a:pt x="15714" y="6347"/>
                  <a:pt x="15751" y="6375"/>
                </a:cubicBezTo>
                <a:cubicBezTo>
                  <a:pt x="15751" y="6513"/>
                  <a:pt x="15727" y="6580"/>
                  <a:pt x="15652" y="6697"/>
                </a:cubicBezTo>
                <a:cubicBezTo>
                  <a:pt x="15619" y="6748"/>
                  <a:pt x="15517" y="6846"/>
                  <a:pt x="15553" y="6846"/>
                </a:cubicBezTo>
                <a:cubicBezTo>
                  <a:pt x="15700" y="6819"/>
                  <a:pt x="15846" y="6764"/>
                  <a:pt x="15999" y="6747"/>
                </a:cubicBezTo>
                <a:cubicBezTo>
                  <a:pt x="16057" y="6747"/>
                  <a:pt x="16065" y="6747"/>
                  <a:pt x="16098" y="674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04960" y="2840040"/>
            <a:ext cx="957240" cy="231840"/>
          </a:xfrm>
          <a:custGeom>
            <a:avLst/>
            <a:gdLst/>
            <a:ahLst/>
            <a:rect l="l" t="t" r="r" b="b"/>
            <a:pathLst>
              <a:path w="2655" h="646">
                <a:moveTo>
                  <a:pt x="4762" y="8533"/>
                </a:moveTo>
                <a:cubicBezTo>
                  <a:pt x="4752" y="8493"/>
                  <a:pt x="4733" y="8517"/>
                  <a:pt x="4762" y="8434"/>
                </a:cubicBezTo>
                <a:cubicBezTo>
                  <a:pt x="4794" y="8341"/>
                  <a:pt x="4839" y="8314"/>
                  <a:pt x="4911" y="8260"/>
                </a:cubicBezTo>
                <a:cubicBezTo>
                  <a:pt x="5002" y="8192"/>
                  <a:pt x="5106" y="8178"/>
                  <a:pt x="5209" y="8136"/>
                </a:cubicBezTo>
                <a:cubicBezTo>
                  <a:pt x="5323" y="8089"/>
                  <a:pt x="5439" y="8051"/>
                  <a:pt x="5556" y="8012"/>
                </a:cubicBezTo>
                <a:cubicBezTo>
                  <a:pt x="5686" y="7968"/>
                  <a:pt x="5847" y="7929"/>
                  <a:pt x="5978" y="7913"/>
                </a:cubicBezTo>
                <a:cubicBezTo>
                  <a:pt x="6119" y="7896"/>
                  <a:pt x="6306" y="7865"/>
                  <a:pt x="6449" y="7888"/>
                </a:cubicBezTo>
                <a:cubicBezTo>
                  <a:pt x="6543" y="7903"/>
                  <a:pt x="6656" y="7914"/>
                  <a:pt x="6747" y="7938"/>
                </a:cubicBezTo>
                <a:cubicBezTo>
                  <a:pt x="6831" y="7960"/>
                  <a:pt x="6925" y="8017"/>
                  <a:pt x="6995" y="8062"/>
                </a:cubicBezTo>
                <a:cubicBezTo>
                  <a:pt x="7103" y="8131"/>
                  <a:pt x="7199" y="8233"/>
                  <a:pt x="7317" y="8285"/>
                </a:cubicBezTo>
                <a:cubicBezTo>
                  <a:pt x="7375" y="8304"/>
                  <a:pt x="7400" y="8294"/>
                  <a:pt x="7392" y="83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41840" y="2894040"/>
            <a:ext cx="339480" cy="285840"/>
          </a:xfrm>
          <a:custGeom>
            <a:avLst/>
            <a:gdLst/>
            <a:ahLst/>
            <a:rect l="l" t="t" r="r" b="b"/>
            <a:pathLst>
              <a:path w="944" h="794">
                <a:moveTo>
                  <a:pt x="10666" y="8086"/>
                </a:moveTo>
                <a:cubicBezTo>
                  <a:pt x="10698" y="8040"/>
                  <a:pt x="10813" y="8056"/>
                  <a:pt x="10864" y="8111"/>
                </a:cubicBezTo>
                <a:cubicBezTo>
                  <a:pt x="11024" y="8283"/>
                  <a:pt x="10906" y="8525"/>
                  <a:pt x="10765" y="8657"/>
                </a:cubicBezTo>
                <a:cubicBezTo>
                  <a:pt x="10640" y="8774"/>
                  <a:pt x="10565" y="8777"/>
                  <a:pt x="10418" y="8756"/>
                </a:cubicBezTo>
                <a:cubicBezTo>
                  <a:pt x="10398" y="8637"/>
                  <a:pt x="10416" y="8539"/>
                  <a:pt x="10567" y="8508"/>
                </a:cubicBezTo>
                <a:cubicBezTo>
                  <a:pt x="10711" y="8478"/>
                  <a:pt x="10816" y="8551"/>
                  <a:pt x="10914" y="8607"/>
                </a:cubicBezTo>
                <a:cubicBezTo>
                  <a:pt x="10947" y="8626"/>
                  <a:pt x="10933" y="8637"/>
                  <a:pt x="10964" y="8657"/>
                </a:cubicBezTo>
              </a:path>
              <a:path w="944" h="794">
                <a:moveTo>
                  <a:pt x="11187" y="8037"/>
                </a:moveTo>
                <a:cubicBezTo>
                  <a:pt x="11187" y="8142"/>
                  <a:pt x="11243" y="8252"/>
                  <a:pt x="11261" y="8359"/>
                </a:cubicBezTo>
                <a:cubicBezTo>
                  <a:pt x="11286" y="8506"/>
                  <a:pt x="11281" y="8703"/>
                  <a:pt x="11336" y="883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3160" y="3562200"/>
            <a:ext cx="795600" cy="152640"/>
          </a:xfrm>
          <a:custGeom>
            <a:avLst/>
            <a:gdLst/>
            <a:ahLst/>
            <a:rect l="l" t="t" r="r" b="b"/>
            <a:pathLst>
              <a:path w="2208" h="423">
                <a:moveTo>
                  <a:pt x="5482" y="9897"/>
                </a:moveTo>
                <a:cubicBezTo>
                  <a:pt x="5542" y="9935"/>
                  <a:pt x="5594" y="9995"/>
                  <a:pt x="5655" y="10046"/>
                </a:cubicBezTo>
                <a:cubicBezTo>
                  <a:pt x="5788" y="10157"/>
                  <a:pt x="5959" y="10250"/>
                  <a:pt x="6127" y="10294"/>
                </a:cubicBezTo>
                <a:cubicBezTo>
                  <a:pt x="6340" y="10350"/>
                  <a:pt x="6582" y="10322"/>
                  <a:pt x="6796" y="10294"/>
                </a:cubicBezTo>
                <a:cubicBezTo>
                  <a:pt x="6972" y="10271"/>
                  <a:pt x="7153" y="10240"/>
                  <a:pt x="7317" y="10170"/>
                </a:cubicBezTo>
                <a:cubicBezTo>
                  <a:pt x="7447" y="10115"/>
                  <a:pt x="7530" y="10027"/>
                  <a:pt x="7640" y="9947"/>
                </a:cubicBezTo>
                <a:cubicBezTo>
                  <a:pt x="7662" y="9925"/>
                  <a:pt x="7667" y="9916"/>
                  <a:pt x="7689" y="992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24200" y="2813040"/>
            <a:ext cx="1312920" cy="822240"/>
          </a:xfrm>
          <a:custGeom>
            <a:avLst/>
            <a:gdLst/>
            <a:ahLst/>
            <a:rect l="l" t="t" r="r" b="b"/>
            <a:pathLst>
              <a:path w="3647" h="2284">
                <a:moveTo>
                  <a:pt x="10344" y="9103"/>
                </a:moveTo>
                <a:cubicBezTo>
                  <a:pt x="10552" y="9078"/>
                  <a:pt x="10755" y="9029"/>
                  <a:pt x="10964" y="9004"/>
                </a:cubicBezTo>
                <a:cubicBezTo>
                  <a:pt x="11164" y="8980"/>
                  <a:pt x="11358" y="8979"/>
                  <a:pt x="11559" y="8979"/>
                </a:cubicBezTo>
                <a:cubicBezTo>
                  <a:pt x="11567" y="8979"/>
                  <a:pt x="11576" y="8979"/>
                  <a:pt x="11584" y="8979"/>
                </a:cubicBezTo>
              </a:path>
              <a:path w="3647" h="2284">
                <a:moveTo>
                  <a:pt x="10517" y="9401"/>
                </a:moveTo>
                <a:cubicBezTo>
                  <a:pt x="10624" y="9295"/>
                  <a:pt x="10711" y="9249"/>
                  <a:pt x="10864" y="9227"/>
                </a:cubicBezTo>
                <a:cubicBezTo>
                  <a:pt x="10954" y="9227"/>
                  <a:pt x="10980" y="9220"/>
                  <a:pt x="11013" y="9277"/>
                </a:cubicBezTo>
                <a:cubicBezTo>
                  <a:pt x="10990" y="9426"/>
                  <a:pt x="10939" y="9507"/>
                  <a:pt x="10815" y="9599"/>
                </a:cubicBezTo>
                <a:cubicBezTo>
                  <a:pt x="10758" y="9637"/>
                  <a:pt x="10733" y="9675"/>
                  <a:pt x="10740" y="9624"/>
                </a:cubicBezTo>
                <a:cubicBezTo>
                  <a:pt x="10845" y="9549"/>
                  <a:pt x="10937" y="9519"/>
                  <a:pt x="11063" y="9575"/>
                </a:cubicBezTo>
                <a:cubicBezTo>
                  <a:pt x="11218" y="9644"/>
                  <a:pt x="11121" y="9776"/>
                  <a:pt x="11013" y="9823"/>
                </a:cubicBezTo>
                <a:cubicBezTo>
                  <a:pt x="10890" y="9877"/>
                  <a:pt x="10641" y="9955"/>
                  <a:pt x="10517" y="9872"/>
                </a:cubicBezTo>
                <a:cubicBezTo>
                  <a:pt x="10517" y="9864"/>
                  <a:pt x="10517" y="9855"/>
                  <a:pt x="10517" y="9847"/>
                </a:cubicBezTo>
              </a:path>
              <a:path w="3647" h="2284">
                <a:moveTo>
                  <a:pt x="11385" y="9203"/>
                </a:moveTo>
                <a:cubicBezTo>
                  <a:pt x="11337" y="9268"/>
                  <a:pt x="11320" y="9392"/>
                  <a:pt x="11311" y="9475"/>
                </a:cubicBezTo>
                <a:cubicBezTo>
                  <a:pt x="11300" y="9574"/>
                  <a:pt x="11282" y="9720"/>
                  <a:pt x="11410" y="9748"/>
                </a:cubicBezTo>
                <a:cubicBezTo>
                  <a:pt x="11531" y="9774"/>
                  <a:pt x="11622" y="9727"/>
                  <a:pt x="11708" y="9649"/>
                </a:cubicBezTo>
                <a:cubicBezTo>
                  <a:pt x="11743" y="9617"/>
                  <a:pt x="11820" y="9532"/>
                  <a:pt x="11782" y="9475"/>
                </a:cubicBezTo>
                <a:cubicBezTo>
                  <a:pt x="11722" y="9384"/>
                  <a:pt x="11675" y="9436"/>
                  <a:pt x="11609" y="9475"/>
                </a:cubicBezTo>
                <a:cubicBezTo>
                  <a:pt x="11523" y="9526"/>
                  <a:pt x="11508" y="9635"/>
                  <a:pt x="11559" y="9723"/>
                </a:cubicBezTo>
                <a:cubicBezTo>
                  <a:pt x="11579" y="9758"/>
                  <a:pt x="11580" y="9763"/>
                  <a:pt x="11609" y="9773"/>
                </a:cubicBezTo>
              </a:path>
              <a:path w="3647" h="2284">
                <a:moveTo>
                  <a:pt x="11807" y="8458"/>
                </a:moveTo>
                <a:cubicBezTo>
                  <a:pt x="11837" y="8400"/>
                  <a:pt x="11935" y="8337"/>
                  <a:pt x="12005" y="8310"/>
                </a:cubicBezTo>
                <a:cubicBezTo>
                  <a:pt x="12081" y="8281"/>
                  <a:pt x="12138" y="8279"/>
                  <a:pt x="12204" y="8235"/>
                </a:cubicBezTo>
              </a:path>
              <a:path w="3647" h="2284">
                <a:moveTo>
                  <a:pt x="11931" y="7987"/>
                </a:moveTo>
                <a:cubicBezTo>
                  <a:pt x="11931" y="8046"/>
                  <a:pt x="11934" y="8072"/>
                  <a:pt x="11956" y="8111"/>
                </a:cubicBezTo>
              </a:path>
              <a:path w="3647" h="2284">
                <a:moveTo>
                  <a:pt x="12105" y="8533"/>
                </a:moveTo>
                <a:cubicBezTo>
                  <a:pt x="12113" y="8541"/>
                  <a:pt x="12121" y="8550"/>
                  <a:pt x="12129" y="8558"/>
                </a:cubicBezTo>
              </a:path>
              <a:path w="3647" h="2284">
                <a:moveTo>
                  <a:pt x="12452" y="7838"/>
                </a:moveTo>
                <a:cubicBezTo>
                  <a:pt x="12542" y="7820"/>
                  <a:pt x="12670" y="7765"/>
                  <a:pt x="12650" y="7913"/>
                </a:cubicBezTo>
                <a:cubicBezTo>
                  <a:pt x="12637" y="8004"/>
                  <a:pt x="12607" y="8045"/>
                  <a:pt x="12551" y="8111"/>
                </a:cubicBezTo>
                <a:cubicBezTo>
                  <a:pt x="12607" y="8103"/>
                  <a:pt x="12779" y="8050"/>
                  <a:pt x="12799" y="8161"/>
                </a:cubicBezTo>
                <a:cubicBezTo>
                  <a:pt x="12823" y="8294"/>
                  <a:pt x="12668" y="8370"/>
                  <a:pt x="12576" y="8409"/>
                </a:cubicBezTo>
              </a:path>
              <a:path w="3647" h="2284">
                <a:moveTo>
                  <a:pt x="12154" y="9525"/>
                </a:moveTo>
                <a:cubicBezTo>
                  <a:pt x="12217" y="9541"/>
                  <a:pt x="12288" y="9578"/>
                  <a:pt x="12353" y="9599"/>
                </a:cubicBezTo>
                <a:cubicBezTo>
                  <a:pt x="12393" y="9619"/>
                  <a:pt x="12399" y="9628"/>
                  <a:pt x="12427" y="9624"/>
                </a:cubicBezTo>
              </a:path>
              <a:path w="3647" h="2284">
                <a:moveTo>
                  <a:pt x="12303" y="9227"/>
                </a:moveTo>
                <a:cubicBezTo>
                  <a:pt x="12303" y="9279"/>
                  <a:pt x="12304" y="9297"/>
                  <a:pt x="12328" y="9327"/>
                </a:cubicBezTo>
              </a:path>
              <a:path w="3647" h="2284">
                <a:moveTo>
                  <a:pt x="12229" y="9922"/>
                </a:moveTo>
                <a:cubicBezTo>
                  <a:pt x="12237" y="9922"/>
                  <a:pt x="12246" y="9922"/>
                  <a:pt x="12254" y="9922"/>
                </a:cubicBezTo>
              </a:path>
              <a:path w="3647" h="2284">
                <a:moveTo>
                  <a:pt x="12675" y="9525"/>
                </a:moveTo>
                <a:cubicBezTo>
                  <a:pt x="12730" y="9501"/>
                  <a:pt x="12782" y="9500"/>
                  <a:pt x="12849" y="9500"/>
                </a:cubicBezTo>
                <a:cubicBezTo>
                  <a:pt x="12877" y="9610"/>
                  <a:pt x="12881" y="9718"/>
                  <a:pt x="12774" y="9798"/>
                </a:cubicBezTo>
                <a:cubicBezTo>
                  <a:pt x="12749" y="9806"/>
                  <a:pt x="12725" y="9815"/>
                  <a:pt x="12700" y="9823"/>
                </a:cubicBezTo>
                <a:cubicBezTo>
                  <a:pt x="12765" y="9823"/>
                  <a:pt x="12932" y="9791"/>
                  <a:pt x="12973" y="9847"/>
                </a:cubicBezTo>
                <a:cubicBezTo>
                  <a:pt x="13052" y="9956"/>
                  <a:pt x="12846" y="10081"/>
                  <a:pt x="12774" y="10096"/>
                </a:cubicBezTo>
                <a:cubicBezTo>
                  <a:pt x="12662" y="10096"/>
                  <a:pt x="12630" y="10102"/>
                  <a:pt x="12576" y="10046"/>
                </a:cubicBezTo>
              </a:path>
              <a:path w="3647" h="2284">
                <a:moveTo>
                  <a:pt x="13618" y="8930"/>
                </a:moveTo>
                <a:cubicBezTo>
                  <a:pt x="13737" y="8930"/>
                  <a:pt x="13854" y="8918"/>
                  <a:pt x="13965" y="8954"/>
                </a:cubicBezTo>
              </a:path>
              <a:path w="3647" h="2284">
                <a:moveTo>
                  <a:pt x="13667" y="9178"/>
                </a:moveTo>
                <a:cubicBezTo>
                  <a:pt x="13788" y="9168"/>
                  <a:pt x="13882" y="9153"/>
                  <a:pt x="13990" y="910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2894040"/>
            <a:ext cx="374760" cy="642960"/>
          </a:xfrm>
          <a:custGeom>
            <a:avLst/>
            <a:gdLst/>
            <a:ahLst/>
            <a:rect l="l" t="t" r="r" b="b"/>
            <a:pathLst>
              <a:path w="1043" h="1787">
                <a:moveTo>
                  <a:pt x="14709" y="8111"/>
                </a:moveTo>
                <a:cubicBezTo>
                  <a:pt x="14885" y="8111"/>
                  <a:pt x="15057" y="8094"/>
                  <a:pt x="15230" y="8062"/>
                </a:cubicBezTo>
                <a:cubicBezTo>
                  <a:pt x="15320" y="8039"/>
                  <a:pt x="15344" y="8031"/>
                  <a:pt x="15404" y="8037"/>
                </a:cubicBezTo>
                <a:cubicBezTo>
                  <a:pt x="15404" y="8182"/>
                  <a:pt x="15363" y="8295"/>
                  <a:pt x="15329" y="8434"/>
                </a:cubicBezTo>
                <a:cubicBezTo>
                  <a:pt x="15312" y="8505"/>
                  <a:pt x="15292" y="8585"/>
                  <a:pt x="15280" y="8657"/>
                </a:cubicBezTo>
              </a:path>
              <a:path w="1043" h="1787">
                <a:moveTo>
                  <a:pt x="14883" y="9128"/>
                </a:moveTo>
                <a:cubicBezTo>
                  <a:pt x="15010" y="9043"/>
                  <a:pt x="15204" y="9009"/>
                  <a:pt x="15354" y="8979"/>
                </a:cubicBezTo>
                <a:cubicBezTo>
                  <a:pt x="15481" y="8954"/>
                  <a:pt x="15601" y="8923"/>
                  <a:pt x="15726" y="8905"/>
                </a:cubicBezTo>
              </a:path>
              <a:path w="1043" h="1787">
                <a:moveTo>
                  <a:pt x="14883" y="9302"/>
                </a:moveTo>
                <a:cubicBezTo>
                  <a:pt x="14883" y="9227"/>
                  <a:pt x="14903" y="9400"/>
                  <a:pt x="14908" y="9475"/>
                </a:cubicBezTo>
                <a:cubicBezTo>
                  <a:pt x="14909" y="9490"/>
                  <a:pt x="14893" y="9823"/>
                  <a:pt x="14932" y="9823"/>
                </a:cubicBezTo>
                <a:cubicBezTo>
                  <a:pt x="14932" y="9815"/>
                  <a:pt x="14932" y="9806"/>
                  <a:pt x="14932" y="9798"/>
                </a:cubicBezTo>
              </a:path>
              <a:path w="1043" h="1787">
                <a:moveTo>
                  <a:pt x="15230" y="9351"/>
                </a:moveTo>
                <a:cubicBezTo>
                  <a:pt x="15253" y="9262"/>
                  <a:pt x="15351" y="9280"/>
                  <a:pt x="15429" y="9277"/>
                </a:cubicBezTo>
                <a:cubicBezTo>
                  <a:pt x="15490" y="9277"/>
                  <a:pt x="15506" y="9268"/>
                  <a:pt x="15528" y="9302"/>
                </a:cubicBezTo>
                <a:cubicBezTo>
                  <a:pt x="15514" y="9457"/>
                  <a:pt x="15479" y="9576"/>
                  <a:pt x="15379" y="9699"/>
                </a:cubicBezTo>
                <a:cubicBezTo>
                  <a:pt x="15354" y="9724"/>
                  <a:pt x="15329" y="9748"/>
                  <a:pt x="15304" y="9773"/>
                </a:cubicBezTo>
                <a:cubicBezTo>
                  <a:pt x="15410" y="9773"/>
                  <a:pt x="15499" y="9748"/>
                  <a:pt x="15602" y="9723"/>
                </a:cubicBezTo>
                <a:cubicBezTo>
                  <a:pt x="15684" y="9703"/>
                  <a:pt x="15700" y="9695"/>
                  <a:pt x="15751" y="969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50040" y="1312920"/>
            <a:ext cx="1662120" cy="1125360"/>
          </a:xfrm>
          <a:custGeom>
            <a:avLst/>
            <a:gdLst/>
            <a:ahLst/>
            <a:rect l="l" t="t" r="r" b="b"/>
            <a:pathLst>
              <a:path w="4615" h="3127">
                <a:moveTo>
                  <a:pt x="20836" y="4415"/>
                </a:moveTo>
                <a:cubicBezTo>
                  <a:pt x="20886" y="4386"/>
                  <a:pt x="20929" y="4355"/>
                  <a:pt x="20985" y="4341"/>
                </a:cubicBezTo>
                <a:cubicBezTo>
                  <a:pt x="21010" y="4341"/>
                  <a:pt x="21018" y="4341"/>
                  <a:pt x="21034" y="4341"/>
                </a:cubicBezTo>
                <a:cubicBezTo>
                  <a:pt x="21005" y="4548"/>
                  <a:pt x="20880" y="4659"/>
                  <a:pt x="20737" y="4812"/>
                </a:cubicBezTo>
                <a:cubicBezTo>
                  <a:pt x="20649" y="4906"/>
                  <a:pt x="20513" y="5026"/>
                  <a:pt x="20414" y="5085"/>
                </a:cubicBezTo>
                <a:cubicBezTo>
                  <a:pt x="20529" y="5052"/>
                  <a:pt x="20636" y="4999"/>
                  <a:pt x="20762" y="4986"/>
                </a:cubicBezTo>
                <a:cubicBezTo>
                  <a:pt x="20843" y="4978"/>
                  <a:pt x="20929" y="4986"/>
                  <a:pt x="21010" y="4986"/>
                </a:cubicBezTo>
              </a:path>
              <a:path w="4615" h="3127">
                <a:moveTo>
                  <a:pt x="20141" y="5457"/>
                </a:moveTo>
                <a:cubicBezTo>
                  <a:pt x="20352" y="5417"/>
                  <a:pt x="20595" y="5379"/>
                  <a:pt x="20811" y="5358"/>
                </a:cubicBezTo>
                <a:cubicBezTo>
                  <a:pt x="20947" y="5345"/>
                  <a:pt x="21034" y="5370"/>
                  <a:pt x="21158" y="5407"/>
                </a:cubicBezTo>
              </a:path>
              <a:path w="4615" h="3127">
                <a:moveTo>
                  <a:pt x="20513" y="6003"/>
                </a:moveTo>
                <a:cubicBezTo>
                  <a:pt x="20615" y="5977"/>
                  <a:pt x="20686" y="5939"/>
                  <a:pt x="20811" y="5953"/>
                </a:cubicBezTo>
                <a:cubicBezTo>
                  <a:pt x="20836" y="5961"/>
                  <a:pt x="20861" y="5970"/>
                  <a:pt x="20886" y="5978"/>
                </a:cubicBezTo>
                <a:cubicBezTo>
                  <a:pt x="20899" y="6105"/>
                  <a:pt x="20800" y="6174"/>
                  <a:pt x="20687" y="6251"/>
                </a:cubicBezTo>
                <a:cubicBezTo>
                  <a:pt x="20671" y="6259"/>
                  <a:pt x="20654" y="6268"/>
                  <a:pt x="20638" y="6276"/>
                </a:cubicBezTo>
                <a:cubicBezTo>
                  <a:pt x="20731" y="6260"/>
                  <a:pt x="20832" y="6209"/>
                  <a:pt x="20910" y="6300"/>
                </a:cubicBezTo>
                <a:cubicBezTo>
                  <a:pt x="20990" y="6394"/>
                  <a:pt x="20923" y="6548"/>
                  <a:pt x="20836" y="6598"/>
                </a:cubicBezTo>
                <a:cubicBezTo>
                  <a:pt x="20765" y="6639"/>
                  <a:pt x="20402" y="6717"/>
                  <a:pt x="20340" y="6623"/>
                </a:cubicBezTo>
                <a:cubicBezTo>
                  <a:pt x="20348" y="6598"/>
                  <a:pt x="20357" y="6573"/>
                  <a:pt x="20365" y="6548"/>
                </a:cubicBezTo>
              </a:path>
              <a:path w="4615" h="3127">
                <a:moveTo>
                  <a:pt x="21605" y="5507"/>
                </a:moveTo>
                <a:cubicBezTo>
                  <a:pt x="21652" y="5683"/>
                  <a:pt x="21693" y="5816"/>
                  <a:pt x="21779" y="5978"/>
                </a:cubicBezTo>
                <a:cubicBezTo>
                  <a:pt x="21798" y="6019"/>
                  <a:pt x="21806" y="6025"/>
                  <a:pt x="21803" y="6052"/>
                </a:cubicBezTo>
              </a:path>
              <a:path w="4615" h="3127">
                <a:moveTo>
                  <a:pt x="21803" y="5482"/>
                </a:moveTo>
                <a:cubicBezTo>
                  <a:pt x="21702" y="5684"/>
                  <a:pt x="21607" y="5932"/>
                  <a:pt x="21456" y="6102"/>
                </a:cubicBezTo>
                <a:cubicBezTo>
                  <a:pt x="21448" y="6102"/>
                  <a:pt x="21439" y="6102"/>
                  <a:pt x="21431" y="6102"/>
                </a:cubicBezTo>
              </a:path>
              <a:path w="4615" h="3127">
                <a:moveTo>
                  <a:pt x="22870" y="4366"/>
                </a:moveTo>
                <a:cubicBezTo>
                  <a:pt x="22809" y="4371"/>
                  <a:pt x="22659" y="4365"/>
                  <a:pt x="22622" y="4415"/>
                </a:cubicBezTo>
                <a:cubicBezTo>
                  <a:pt x="22572" y="4483"/>
                  <a:pt x="22578" y="4630"/>
                  <a:pt x="22547" y="4713"/>
                </a:cubicBezTo>
                <a:cubicBezTo>
                  <a:pt x="22539" y="4729"/>
                  <a:pt x="22531" y="4746"/>
                  <a:pt x="22523" y="4762"/>
                </a:cubicBezTo>
                <a:cubicBezTo>
                  <a:pt x="22593" y="4748"/>
                  <a:pt x="22709" y="4690"/>
                  <a:pt x="22771" y="4688"/>
                </a:cubicBezTo>
                <a:cubicBezTo>
                  <a:pt x="22875" y="4685"/>
                  <a:pt x="23033" y="4758"/>
                  <a:pt x="22994" y="4887"/>
                </a:cubicBezTo>
                <a:cubicBezTo>
                  <a:pt x="22960" y="5000"/>
                  <a:pt x="22805" y="5093"/>
                  <a:pt x="22696" y="5110"/>
                </a:cubicBezTo>
                <a:cubicBezTo>
                  <a:pt x="22613" y="5110"/>
                  <a:pt x="22597" y="5110"/>
                  <a:pt x="22547" y="5110"/>
                </a:cubicBezTo>
              </a:path>
              <a:path w="4615" h="3127">
                <a:moveTo>
                  <a:pt x="22299" y="5432"/>
                </a:moveTo>
                <a:cubicBezTo>
                  <a:pt x="22563" y="5413"/>
                  <a:pt x="22829" y="5371"/>
                  <a:pt x="23093" y="5333"/>
                </a:cubicBezTo>
                <a:cubicBezTo>
                  <a:pt x="23143" y="5325"/>
                  <a:pt x="23192" y="5316"/>
                  <a:pt x="23242" y="5308"/>
                </a:cubicBezTo>
              </a:path>
              <a:path w="4615" h="3127">
                <a:moveTo>
                  <a:pt x="23019" y="5730"/>
                </a:moveTo>
                <a:cubicBezTo>
                  <a:pt x="22889" y="5730"/>
                  <a:pt x="22827" y="5748"/>
                  <a:pt x="22721" y="5829"/>
                </a:cubicBezTo>
                <a:cubicBezTo>
                  <a:pt x="22565" y="5949"/>
                  <a:pt x="22747" y="6045"/>
                  <a:pt x="22820" y="6127"/>
                </a:cubicBezTo>
                <a:cubicBezTo>
                  <a:pt x="22901" y="6218"/>
                  <a:pt x="22969" y="6320"/>
                  <a:pt x="22870" y="6424"/>
                </a:cubicBezTo>
                <a:cubicBezTo>
                  <a:pt x="22813" y="6452"/>
                  <a:pt x="22790" y="6463"/>
                  <a:pt x="22746" y="6474"/>
                </a:cubicBezTo>
                <a:cubicBezTo>
                  <a:pt x="22631" y="6310"/>
                  <a:pt x="22707" y="6246"/>
                  <a:pt x="22796" y="6077"/>
                </a:cubicBezTo>
                <a:cubicBezTo>
                  <a:pt x="22829" y="6013"/>
                  <a:pt x="22904" y="5942"/>
                  <a:pt x="22920" y="5879"/>
                </a:cubicBezTo>
              </a:path>
              <a:path w="4615" h="3127">
                <a:moveTo>
                  <a:pt x="22969" y="5655"/>
                </a:moveTo>
                <a:cubicBezTo>
                  <a:pt x="22892" y="5876"/>
                  <a:pt x="22781" y="6092"/>
                  <a:pt x="22671" y="6300"/>
                </a:cubicBezTo>
                <a:cubicBezTo>
                  <a:pt x="22628" y="6380"/>
                  <a:pt x="22580" y="6454"/>
                  <a:pt x="22523" y="6524"/>
                </a:cubicBezTo>
              </a:path>
              <a:path w="4615" h="3127">
                <a:moveTo>
                  <a:pt x="23316" y="6152"/>
                </a:moveTo>
                <a:cubicBezTo>
                  <a:pt x="23316" y="6247"/>
                  <a:pt x="23284" y="6309"/>
                  <a:pt x="23267" y="6400"/>
                </a:cubicBezTo>
                <a:cubicBezTo>
                  <a:pt x="23267" y="6441"/>
                  <a:pt x="23267" y="6449"/>
                  <a:pt x="23267" y="6474"/>
                </a:cubicBezTo>
                <a:cubicBezTo>
                  <a:pt x="23399" y="6474"/>
                  <a:pt x="23561" y="6482"/>
                  <a:pt x="23688" y="6449"/>
                </a:cubicBezTo>
                <a:cubicBezTo>
                  <a:pt x="23696" y="6441"/>
                  <a:pt x="23705" y="6432"/>
                  <a:pt x="23713" y="6424"/>
                </a:cubicBezTo>
              </a:path>
              <a:path w="4615" h="3127">
                <a:moveTo>
                  <a:pt x="23664" y="6152"/>
                </a:moveTo>
                <a:cubicBezTo>
                  <a:pt x="23611" y="6309"/>
                  <a:pt x="23613" y="6462"/>
                  <a:pt x="23589" y="6623"/>
                </a:cubicBezTo>
                <a:cubicBezTo>
                  <a:pt x="23580" y="6681"/>
                  <a:pt x="23564" y="6806"/>
                  <a:pt x="23564" y="6747"/>
                </a:cubicBezTo>
              </a:path>
              <a:path w="4615" h="3127">
                <a:moveTo>
                  <a:pt x="21158" y="4291"/>
                </a:moveTo>
                <a:cubicBezTo>
                  <a:pt x="21067" y="4375"/>
                  <a:pt x="20916" y="4531"/>
                  <a:pt x="20811" y="4614"/>
                </a:cubicBezTo>
                <a:cubicBezTo>
                  <a:pt x="20620" y="4764"/>
                  <a:pt x="20344" y="4918"/>
                  <a:pt x="20191" y="5110"/>
                </a:cubicBezTo>
                <a:cubicBezTo>
                  <a:pt x="20191" y="5118"/>
                  <a:pt x="20191" y="5127"/>
                  <a:pt x="20191" y="5135"/>
                </a:cubicBezTo>
              </a:path>
              <a:path w="4615" h="3127">
                <a:moveTo>
                  <a:pt x="20315" y="3671"/>
                </a:moveTo>
                <a:cubicBezTo>
                  <a:pt x="20315" y="3580"/>
                  <a:pt x="20315" y="3803"/>
                  <a:pt x="20315" y="3894"/>
                </a:cubicBezTo>
                <a:cubicBezTo>
                  <a:pt x="20315" y="3993"/>
                  <a:pt x="20315" y="4093"/>
                  <a:pt x="20315" y="4192"/>
                </a:cubicBezTo>
              </a:path>
              <a:path w="4615" h="3127">
                <a:moveTo>
                  <a:pt x="23416" y="4961"/>
                </a:moveTo>
                <a:cubicBezTo>
                  <a:pt x="23499" y="4961"/>
                  <a:pt x="23581" y="4961"/>
                  <a:pt x="23664" y="4961"/>
                </a:cubicBezTo>
              </a:path>
              <a:path w="4615" h="3127">
                <a:moveTo>
                  <a:pt x="23366" y="5209"/>
                </a:moveTo>
                <a:cubicBezTo>
                  <a:pt x="23495" y="5199"/>
                  <a:pt x="23600" y="5187"/>
                  <a:pt x="23713" y="5135"/>
                </a:cubicBezTo>
              </a:path>
              <a:path w="4615" h="3127">
                <a:moveTo>
                  <a:pt x="24259" y="4415"/>
                </a:moveTo>
                <a:cubicBezTo>
                  <a:pt x="24225" y="4364"/>
                  <a:pt x="24166" y="4400"/>
                  <a:pt x="24110" y="4415"/>
                </a:cubicBezTo>
                <a:cubicBezTo>
                  <a:pt x="24055" y="4430"/>
                  <a:pt x="24011" y="4553"/>
                  <a:pt x="24036" y="4614"/>
                </a:cubicBezTo>
                <a:cubicBezTo>
                  <a:pt x="24074" y="4707"/>
                  <a:pt x="24139" y="4685"/>
                  <a:pt x="24209" y="4663"/>
                </a:cubicBezTo>
                <a:cubicBezTo>
                  <a:pt x="24270" y="4643"/>
                  <a:pt x="24426" y="4625"/>
                  <a:pt x="24457" y="4713"/>
                </a:cubicBezTo>
                <a:cubicBezTo>
                  <a:pt x="24498" y="4830"/>
                  <a:pt x="24402" y="4891"/>
                  <a:pt x="24309" y="4936"/>
                </a:cubicBezTo>
                <a:cubicBezTo>
                  <a:pt x="24227" y="4963"/>
                  <a:pt x="24194" y="4970"/>
                  <a:pt x="24135" y="4936"/>
                </a:cubicBezTo>
              </a:path>
              <a:path w="4615" h="3127">
                <a:moveTo>
                  <a:pt x="23986" y="5209"/>
                </a:moveTo>
                <a:cubicBezTo>
                  <a:pt x="24091" y="5262"/>
                  <a:pt x="24191" y="5196"/>
                  <a:pt x="24309" y="5184"/>
                </a:cubicBezTo>
                <a:cubicBezTo>
                  <a:pt x="24372" y="5177"/>
                  <a:pt x="24443" y="5184"/>
                  <a:pt x="24507" y="5184"/>
                </a:cubicBezTo>
              </a:path>
              <a:path w="4615" h="3127">
                <a:moveTo>
                  <a:pt x="24110" y="5507"/>
                </a:moveTo>
                <a:cubicBezTo>
                  <a:pt x="24110" y="5617"/>
                  <a:pt x="24132" y="5719"/>
                  <a:pt x="24135" y="5829"/>
                </a:cubicBezTo>
                <a:cubicBezTo>
                  <a:pt x="24137" y="5913"/>
                  <a:pt x="24108" y="5963"/>
                  <a:pt x="24160" y="5928"/>
                </a:cubicBezTo>
              </a:path>
              <a:path w="4615" h="3127">
                <a:moveTo>
                  <a:pt x="24383" y="5531"/>
                </a:moveTo>
                <a:cubicBezTo>
                  <a:pt x="24443" y="5515"/>
                  <a:pt x="24610" y="5434"/>
                  <a:pt x="24631" y="5531"/>
                </a:cubicBezTo>
                <a:cubicBezTo>
                  <a:pt x="24657" y="5652"/>
                  <a:pt x="24543" y="5747"/>
                  <a:pt x="24482" y="5829"/>
                </a:cubicBezTo>
                <a:cubicBezTo>
                  <a:pt x="24466" y="5854"/>
                  <a:pt x="24449" y="5879"/>
                  <a:pt x="24433" y="5904"/>
                </a:cubicBezTo>
                <a:cubicBezTo>
                  <a:pt x="24530" y="5904"/>
                  <a:pt x="24612" y="5874"/>
                  <a:pt x="24705" y="5854"/>
                </a:cubicBezTo>
                <a:cubicBezTo>
                  <a:pt x="24730" y="5854"/>
                  <a:pt x="24738" y="5854"/>
                  <a:pt x="24755" y="585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02720" y="3062160"/>
            <a:ext cx="760320" cy="662040"/>
          </a:xfrm>
          <a:custGeom>
            <a:avLst/>
            <a:gdLst/>
            <a:ahLst/>
            <a:rect l="l" t="t" r="r" b="b"/>
            <a:pathLst>
              <a:path w="2110" h="1837">
                <a:moveTo>
                  <a:pt x="22721" y="9227"/>
                </a:moveTo>
                <a:cubicBezTo>
                  <a:pt x="22752" y="9217"/>
                  <a:pt x="22746" y="9120"/>
                  <a:pt x="22746" y="9153"/>
                </a:cubicBezTo>
                <a:cubicBezTo>
                  <a:pt x="22746" y="9260"/>
                  <a:pt x="22721" y="9384"/>
                  <a:pt x="22721" y="9500"/>
                </a:cubicBezTo>
                <a:cubicBezTo>
                  <a:pt x="22721" y="9607"/>
                  <a:pt x="22712" y="9757"/>
                  <a:pt x="22746" y="9823"/>
                </a:cubicBezTo>
                <a:cubicBezTo>
                  <a:pt x="22756" y="9843"/>
                  <a:pt x="22746" y="9899"/>
                  <a:pt x="22746" y="9922"/>
                </a:cubicBezTo>
              </a:path>
              <a:path w="2110" h="1837">
                <a:moveTo>
                  <a:pt x="22051" y="9897"/>
                </a:moveTo>
                <a:cubicBezTo>
                  <a:pt x="22119" y="10132"/>
                  <a:pt x="22287" y="10199"/>
                  <a:pt x="22523" y="10269"/>
                </a:cubicBezTo>
                <a:cubicBezTo>
                  <a:pt x="22824" y="10358"/>
                  <a:pt x="23216" y="10389"/>
                  <a:pt x="23515" y="10269"/>
                </a:cubicBezTo>
                <a:cubicBezTo>
                  <a:pt x="23878" y="10123"/>
                  <a:pt x="24029" y="9839"/>
                  <a:pt x="24061" y="9475"/>
                </a:cubicBezTo>
                <a:cubicBezTo>
                  <a:pt x="24089" y="9150"/>
                  <a:pt x="23913" y="8840"/>
                  <a:pt x="23639" y="8657"/>
                </a:cubicBezTo>
                <a:cubicBezTo>
                  <a:pt x="23299" y="8430"/>
                  <a:pt x="22914" y="8504"/>
                  <a:pt x="22597" y="8731"/>
                </a:cubicBezTo>
                <a:cubicBezTo>
                  <a:pt x="22243" y="8985"/>
                  <a:pt x="21934" y="9469"/>
                  <a:pt x="21952" y="9922"/>
                </a:cubicBezTo>
                <a:cubicBezTo>
                  <a:pt x="21970" y="10365"/>
                  <a:pt x="22362" y="10328"/>
                  <a:pt x="22671" y="1029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46960" y="4125960"/>
            <a:ext cx="723960" cy="1312920"/>
          </a:xfrm>
          <a:custGeom>
            <a:avLst/>
            <a:gdLst/>
            <a:ahLst/>
            <a:rect l="l" t="t" r="r" b="b"/>
            <a:pathLst>
              <a:path w="2010" h="3647">
                <a:moveTo>
                  <a:pt x="22151" y="11460"/>
                </a:moveTo>
                <a:cubicBezTo>
                  <a:pt x="22130" y="11565"/>
                  <a:pt x="22058" y="11647"/>
                  <a:pt x="22027" y="11757"/>
                </a:cubicBezTo>
                <a:cubicBezTo>
                  <a:pt x="22004" y="11849"/>
                  <a:pt x="21993" y="11874"/>
                  <a:pt x="22027" y="11931"/>
                </a:cubicBezTo>
                <a:cubicBezTo>
                  <a:pt x="22154" y="11970"/>
                  <a:pt x="22280" y="11948"/>
                  <a:pt x="22374" y="11832"/>
                </a:cubicBezTo>
                <a:cubicBezTo>
                  <a:pt x="22382" y="11807"/>
                  <a:pt x="22391" y="11782"/>
                  <a:pt x="22399" y="11757"/>
                </a:cubicBezTo>
                <a:cubicBezTo>
                  <a:pt x="22269" y="11768"/>
                  <a:pt x="22170" y="11791"/>
                  <a:pt x="22126" y="11931"/>
                </a:cubicBezTo>
                <a:cubicBezTo>
                  <a:pt x="22126" y="11948"/>
                  <a:pt x="22126" y="11964"/>
                  <a:pt x="22126" y="11981"/>
                </a:cubicBezTo>
              </a:path>
              <a:path w="2010" h="3647">
                <a:moveTo>
                  <a:pt x="22423" y="11733"/>
                </a:moveTo>
                <a:cubicBezTo>
                  <a:pt x="22409" y="11839"/>
                  <a:pt x="22393" y="12006"/>
                  <a:pt x="22572" y="11956"/>
                </a:cubicBezTo>
                <a:cubicBezTo>
                  <a:pt x="22665" y="11930"/>
                  <a:pt x="22765" y="11762"/>
                  <a:pt x="22671" y="11683"/>
                </a:cubicBezTo>
                <a:cubicBezTo>
                  <a:pt x="22593" y="11657"/>
                  <a:pt x="22566" y="11651"/>
                  <a:pt x="22523" y="11708"/>
                </a:cubicBezTo>
              </a:path>
              <a:path w="2010" h="3647">
                <a:moveTo>
                  <a:pt x="21779" y="12254"/>
                </a:moveTo>
                <a:cubicBezTo>
                  <a:pt x="22047" y="12263"/>
                  <a:pt x="22332" y="12315"/>
                  <a:pt x="22597" y="12303"/>
                </a:cubicBezTo>
                <a:cubicBezTo>
                  <a:pt x="22657" y="12283"/>
                  <a:pt x="22672" y="12264"/>
                  <a:pt x="22696" y="12303"/>
                </a:cubicBezTo>
              </a:path>
              <a:path w="2010" h="3647">
                <a:moveTo>
                  <a:pt x="21406" y="11757"/>
                </a:moveTo>
                <a:cubicBezTo>
                  <a:pt x="21472" y="11757"/>
                  <a:pt x="21539" y="11757"/>
                  <a:pt x="21605" y="11757"/>
                </a:cubicBezTo>
              </a:path>
              <a:path w="2010" h="3647">
                <a:moveTo>
                  <a:pt x="21803" y="12626"/>
                </a:moveTo>
                <a:cubicBezTo>
                  <a:pt x="21858" y="12593"/>
                  <a:pt x="21932" y="12588"/>
                  <a:pt x="21952" y="12675"/>
                </a:cubicBezTo>
                <a:cubicBezTo>
                  <a:pt x="21980" y="12798"/>
                  <a:pt x="21855" y="12856"/>
                  <a:pt x="21779" y="12923"/>
                </a:cubicBezTo>
                <a:cubicBezTo>
                  <a:pt x="21736" y="12923"/>
                  <a:pt x="21830" y="12900"/>
                  <a:pt x="21878" y="12923"/>
                </a:cubicBezTo>
                <a:cubicBezTo>
                  <a:pt x="22013" y="12988"/>
                  <a:pt x="22053" y="13109"/>
                  <a:pt x="21927" y="13196"/>
                </a:cubicBezTo>
                <a:cubicBezTo>
                  <a:pt x="21790" y="13291"/>
                  <a:pt x="21693" y="13242"/>
                  <a:pt x="21580" y="13146"/>
                </a:cubicBezTo>
                <a:cubicBezTo>
                  <a:pt x="21572" y="13138"/>
                  <a:pt x="21563" y="13130"/>
                  <a:pt x="21555" y="13122"/>
                </a:cubicBezTo>
              </a:path>
              <a:path w="2010" h="3647">
                <a:moveTo>
                  <a:pt x="22547" y="12799"/>
                </a:moveTo>
                <a:cubicBezTo>
                  <a:pt x="22502" y="12708"/>
                  <a:pt x="22410" y="12725"/>
                  <a:pt x="22324" y="12774"/>
                </a:cubicBezTo>
                <a:cubicBezTo>
                  <a:pt x="22239" y="12838"/>
                  <a:pt x="22219" y="12850"/>
                  <a:pt x="22175" y="12898"/>
                </a:cubicBezTo>
                <a:cubicBezTo>
                  <a:pt x="22291" y="12968"/>
                  <a:pt x="22410" y="12957"/>
                  <a:pt x="22523" y="12849"/>
                </a:cubicBezTo>
                <a:cubicBezTo>
                  <a:pt x="22544" y="12829"/>
                  <a:pt x="22547" y="12742"/>
                  <a:pt x="22547" y="12799"/>
                </a:cubicBezTo>
                <a:cubicBezTo>
                  <a:pt x="22540" y="12935"/>
                  <a:pt x="22546" y="13093"/>
                  <a:pt x="22498" y="13221"/>
                </a:cubicBezTo>
                <a:cubicBezTo>
                  <a:pt x="22498" y="13213"/>
                  <a:pt x="22498" y="13204"/>
                  <a:pt x="22498" y="13196"/>
                </a:cubicBezTo>
              </a:path>
              <a:path w="2010" h="3647">
                <a:moveTo>
                  <a:pt x="20687" y="13742"/>
                </a:moveTo>
                <a:cubicBezTo>
                  <a:pt x="20783" y="13753"/>
                  <a:pt x="20889" y="13750"/>
                  <a:pt x="20985" y="13767"/>
                </a:cubicBezTo>
                <a:cubicBezTo>
                  <a:pt x="21052" y="13789"/>
                  <a:pt x="21073" y="13790"/>
                  <a:pt x="21084" y="13841"/>
                </a:cubicBezTo>
              </a:path>
              <a:path w="2010" h="3647">
                <a:moveTo>
                  <a:pt x="20737" y="14139"/>
                </a:moveTo>
                <a:cubicBezTo>
                  <a:pt x="20861" y="14139"/>
                  <a:pt x="20985" y="14139"/>
                  <a:pt x="21109" y="14139"/>
                </a:cubicBezTo>
              </a:path>
              <a:path w="2010" h="3647">
                <a:moveTo>
                  <a:pt x="21903" y="13841"/>
                </a:moveTo>
                <a:cubicBezTo>
                  <a:pt x="21926" y="13809"/>
                  <a:pt x="21928" y="13798"/>
                  <a:pt x="21952" y="13767"/>
                </a:cubicBezTo>
                <a:cubicBezTo>
                  <a:pt x="21952" y="13915"/>
                  <a:pt x="21926" y="14096"/>
                  <a:pt x="21903" y="14238"/>
                </a:cubicBezTo>
                <a:cubicBezTo>
                  <a:pt x="21864" y="14482"/>
                  <a:pt x="21815" y="14719"/>
                  <a:pt x="21754" y="14957"/>
                </a:cubicBezTo>
                <a:cubicBezTo>
                  <a:pt x="21739" y="15014"/>
                  <a:pt x="21729" y="15140"/>
                  <a:pt x="21729" y="1508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60680" y="4813200"/>
            <a:ext cx="536400" cy="758880"/>
          </a:xfrm>
          <a:custGeom>
            <a:avLst/>
            <a:gdLst/>
            <a:ahLst/>
            <a:rect l="l" t="t" r="r" b="b"/>
            <a:pathLst>
              <a:path w="1489" h="2109">
                <a:moveTo>
                  <a:pt x="5085" y="13395"/>
                </a:moveTo>
                <a:lnTo>
                  <a:pt x="5085" y="13444"/>
                </a:lnTo>
                <a:lnTo>
                  <a:pt x="5085" y="13593"/>
                </a:lnTo>
                <a:lnTo>
                  <a:pt x="5060" y="13791"/>
                </a:lnTo>
                <a:lnTo>
                  <a:pt x="5035" y="13940"/>
                </a:lnTo>
                <a:lnTo>
                  <a:pt x="5035" y="14039"/>
                </a:lnTo>
                <a:lnTo>
                  <a:pt x="5035" y="14114"/>
                </a:lnTo>
                <a:lnTo>
                  <a:pt x="5035" y="14089"/>
                </a:lnTo>
              </a:path>
              <a:path w="1489" h="2109">
                <a:moveTo>
                  <a:pt x="5457" y="13370"/>
                </a:moveTo>
                <a:cubicBezTo>
                  <a:pt x="5457" y="13496"/>
                  <a:pt x="5497" y="13617"/>
                  <a:pt x="5507" y="13742"/>
                </a:cubicBezTo>
                <a:cubicBezTo>
                  <a:pt x="5515" y="13839"/>
                  <a:pt x="5507" y="13941"/>
                  <a:pt x="5507" y="14039"/>
                </a:cubicBezTo>
              </a:path>
              <a:path w="1489" h="2109">
                <a:moveTo>
                  <a:pt x="4614" y="14511"/>
                </a:moveTo>
                <a:cubicBezTo>
                  <a:pt x="4907" y="14413"/>
                  <a:pt x="5180" y="14304"/>
                  <a:pt x="5482" y="14238"/>
                </a:cubicBezTo>
                <a:cubicBezTo>
                  <a:pt x="5598" y="14213"/>
                  <a:pt x="5615" y="14194"/>
                  <a:pt x="5655" y="14288"/>
                </a:cubicBezTo>
              </a:path>
              <a:path w="1489" h="2109">
                <a:moveTo>
                  <a:pt x="4837" y="14759"/>
                </a:moveTo>
                <a:cubicBezTo>
                  <a:pt x="4904" y="14959"/>
                  <a:pt x="4923" y="15148"/>
                  <a:pt x="4961" y="15354"/>
                </a:cubicBezTo>
                <a:cubicBezTo>
                  <a:pt x="4961" y="15356"/>
                  <a:pt x="4986" y="15563"/>
                  <a:pt x="4986" y="15429"/>
                </a:cubicBezTo>
              </a:path>
              <a:path w="1489" h="2109">
                <a:moveTo>
                  <a:pt x="5581" y="14759"/>
                </a:moveTo>
                <a:cubicBezTo>
                  <a:pt x="5684" y="14881"/>
                  <a:pt x="5777" y="15008"/>
                  <a:pt x="5705" y="15180"/>
                </a:cubicBezTo>
                <a:cubicBezTo>
                  <a:pt x="5639" y="15335"/>
                  <a:pt x="5466" y="15397"/>
                  <a:pt x="5358" y="15329"/>
                </a:cubicBezTo>
                <a:cubicBezTo>
                  <a:pt x="5403" y="15135"/>
                  <a:pt x="5497" y="15067"/>
                  <a:pt x="5705" y="15106"/>
                </a:cubicBezTo>
                <a:cubicBezTo>
                  <a:pt x="5880" y="15139"/>
                  <a:pt x="5983" y="15260"/>
                  <a:pt x="6102" y="1537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3840" y="5126040"/>
            <a:ext cx="206280" cy="303120"/>
          </a:xfrm>
          <a:custGeom>
            <a:avLst/>
            <a:gdLst/>
            <a:ahLst/>
            <a:rect l="l" t="t" r="r" b="b"/>
            <a:pathLst>
              <a:path w="572" h="844">
                <a:moveTo>
                  <a:pt x="6846" y="14387"/>
                </a:moveTo>
                <a:cubicBezTo>
                  <a:pt x="6969" y="14570"/>
                  <a:pt x="7099" y="14745"/>
                  <a:pt x="7218" y="14932"/>
                </a:cubicBezTo>
                <a:cubicBezTo>
                  <a:pt x="7235" y="14957"/>
                  <a:pt x="7251" y="14982"/>
                  <a:pt x="7268" y="15007"/>
                </a:cubicBezTo>
              </a:path>
              <a:path w="572" h="844">
                <a:moveTo>
                  <a:pt x="7417" y="14238"/>
                </a:moveTo>
                <a:cubicBezTo>
                  <a:pt x="7305" y="14463"/>
                  <a:pt x="7190" y="14688"/>
                  <a:pt x="7069" y="14908"/>
                </a:cubicBezTo>
                <a:cubicBezTo>
                  <a:pt x="7003" y="15027"/>
                  <a:pt x="6889" y="15076"/>
                  <a:pt x="7020" y="150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71880" y="5027760"/>
            <a:ext cx="90360" cy="438120"/>
          </a:xfrm>
          <a:custGeom>
            <a:avLst/>
            <a:gdLst/>
            <a:ahLst/>
            <a:rect l="l" t="t" r="r" b="b"/>
            <a:pathLst>
              <a:path w="249" h="1216">
                <a:moveTo>
                  <a:pt x="8533" y="13965"/>
                </a:moveTo>
                <a:cubicBezTo>
                  <a:pt x="8569" y="14144"/>
                  <a:pt x="8632" y="14325"/>
                  <a:pt x="8657" y="14511"/>
                </a:cubicBezTo>
                <a:cubicBezTo>
                  <a:pt x="8687" y="14733"/>
                  <a:pt x="8700" y="14959"/>
                  <a:pt x="8731" y="15180"/>
                </a:cubicBezTo>
                <a:cubicBezTo>
                  <a:pt x="8731" y="15127"/>
                  <a:pt x="8744" y="15093"/>
                  <a:pt x="8781" y="150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1920" y="4714920"/>
            <a:ext cx="349200" cy="723960"/>
          </a:xfrm>
          <a:custGeom>
            <a:avLst/>
            <a:gdLst/>
            <a:ahLst/>
            <a:rect l="l" t="t" r="r" b="b"/>
            <a:pathLst>
              <a:path w="968" h="2010">
                <a:moveTo>
                  <a:pt x="9947" y="13345"/>
                </a:moveTo>
                <a:cubicBezTo>
                  <a:pt x="9947" y="13430"/>
                  <a:pt x="9926" y="13508"/>
                  <a:pt x="9922" y="13593"/>
                </a:cubicBezTo>
                <a:cubicBezTo>
                  <a:pt x="9922" y="13610"/>
                  <a:pt x="9922" y="13626"/>
                  <a:pt x="9922" y="13643"/>
                </a:cubicBezTo>
                <a:cubicBezTo>
                  <a:pt x="10066" y="13622"/>
                  <a:pt x="10205" y="13565"/>
                  <a:pt x="10344" y="13519"/>
                </a:cubicBezTo>
                <a:cubicBezTo>
                  <a:pt x="10401" y="13500"/>
                  <a:pt x="10408" y="13491"/>
                  <a:pt x="10443" y="13494"/>
                </a:cubicBezTo>
              </a:path>
              <a:path w="968" h="2010">
                <a:moveTo>
                  <a:pt x="10344" y="13097"/>
                </a:moveTo>
                <a:cubicBezTo>
                  <a:pt x="10344" y="13349"/>
                  <a:pt x="10345" y="13592"/>
                  <a:pt x="10393" y="13841"/>
                </a:cubicBezTo>
                <a:cubicBezTo>
                  <a:pt x="10401" y="13874"/>
                  <a:pt x="10410" y="13907"/>
                  <a:pt x="10418" y="13940"/>
                </a:cubicBezTo>
              </a:path>
              <a:path w="968" h="2010">
                <a:moveTo>
                  <a:pt x="9971" y="14163"/>
                </a:moveTo>
                <a:cubicBezTo>
                  <a:pt x="10230" y="14103"/>
                  <a:pt x="10499" y="14041"/>
                  <a:pt x="10765" y="14015"/>
                </a:cubicBezTo>
                <a:cubicBezTo>
                  <a:pt x="10849" y="14015"/>
                  <a:pt x="10876" y="14002"/>
                  <a:pt x="10889" y="14064"/>
                </a:cubicBezTo>
              </a:path>
              <a:path w="968" h="2010">
                <a:moveTo>
                  <a:pt x="10691" y="14312"/>
                </a:moveTo>
                <a:cubicBezTo>
                  <a:pt x="10583" y="14366"/>
                  <a:pt x="10471" y="14396"/>
                  <a:pt x="10368" y="14436"/>
                </a:cubicBezTo>
                <a:cubicBezTo>
                  <a:pt x="10297" y="14464"/>
                  <a:pt x="10232" y="14642"/>
                  <a:pt x="10220" y="14709"/>
                </a:cubicBezTo>
                <a:cubicBezTo>
                  <a:pt x="10220" y="14767"/>
                  <a:pt x="10220" y="14775"/>
                  <a:pt x="10220" y="14808"/>
                </a:cubicBezTo>
                <a:cubicBezTo>
                  <a:pt x="10314" y="14780"/>
                  <a:pt x="10393" y="14722"/>
                  <a:pt x="10492" y="14684"/>
                </a:cubicBezTo>
                <a:cubicBezTo>
                  <a:pt x="10641" y="14626"/>
                  <a:pt x="10858" y="14657"/>
                  <a:pt x="10790" y="14883"/>
                </a:cubicBezTo>
                <a:cubicBezTo>
                  <a:pt x="10707" y="15161"/>
                  <a:pt x="10388" y="15110"/>
                  <a:pt x="10170" y="15081"/>
                </a:cubicBezTo>
                <a:cubicBezTo>
                  <a:pt x="10087" y="15065"/>
                  <a:pt x="10005" y="15048"/>
                  <a:pt x="9922" y="1503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6280" y="4938840"/>
            <a:ext cx="13500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2849" y="13742"/>
                </a:moveTo>
                <a:cubicBezTo>
                  <a:pt x="12956" y="13742"/>
                  <a:pt x="13045" y="13733"/>
                  <a:pt x="13146" y="13742"/>
                </a:cubicBezTo>
                <a:cubicBezTo>
                  <a:pt x="13163" y="13742"/>
                  <a:pt x="13179" y="13742"/>
                  <a:pt x="13196" y="13742"/>
                </a:cubicBezTo>
              </a:path>
              <a:path w="373" h="398">
                <a:moveTo>
                  <a:pt x="12824" y="14114"/>
                </a:moveTo>
                <a:cubicBezTo>
                  <a:pt x="12944" y="14040"/>
                  <a:pt x="13030" y="14001"/>
                  <a:pt x="13171" y="1399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97320" y="4599000"/>
            <a:ext cx="1938600" cy="795240"/>
          </a:xfrm>
          <a:custGeom>
            <a:avLst/>
            <a:gdLst/>
            <a:ahLst/>
            <a:rect l="l" t="t" r="r" b="b"/>
            <a:pathLst>
              <a:path w="5384" h="2209">
                <a:moveTo>
                  <a:pt x="15999" y="14536"/>
                </a:moveTo>
                <a:lnTo>
                  <a:pt x="15999" y="14536"/>
                </a:lnTo>
              </a:path>
              <a:path w="5384" h="2209">
                <a:moveTo>
                  <a:pt x="14808" y="13022"/>
                </a:moveTo>
                <a:cubicBezTo>
                  <a:pt x="14808" y="13155"/>
                  <a:pt x="14782" y="13239"/>
                  <a:pt x="14759" y="13370"/>
                </a:cubicBezTo>
                <a:cubicBezTo>
                  <a:pt x="14737" y="13478"/>
                  <a:pt x="14734" y="13504"/>
                  <a:pt x="14709" y="13568"/>
                </a:cubicBezTo>
              </a:path>
              <a:path w="5384" h="2209">
                <a:moveTo>
                  <a:pt x="15156" y="12948"/>
                </a:moveTo>
                <a:cubicBezTo>
                  <a:pt x="15146" y="13141"/>
                  <a:pt x="15118" y="13329"/>
                  <a:pt x="15081" y="13519"/>
                </a:cubicBezTo>
                <a:cubicBezTo>
                  <a:pt x="15066" y="13596"/>
                  <a:pt x="15090" y="13717"/>
                  <a:pt x="15007" y="13717"/>
                </a:cubicBezTo>
              </a:path>
              <a:path w="5384" h="2209">
                <a:moveTo>
                  <a:pt x="14585" y="13841"/>
                </a:moveTo>
                <a:cubicBezTo>
                  <a:pt x="14751" y="13834"/>
                  <a:pt x="14914" y="13816"/>
                  <a:pt x="15081" y="13816"/>
                </a:cubicBezTo>
                <a:cubicBezTo>
                  <a:pt x="15106" y="13816"/>
                  <a:pt x="15114" y="13816"/>
                  <a:pt x="15106" y="13841"/>
                </a:cubicBezTo>
              </a:path>
              <a:path w="5384" h="2209">
                <a:moveTo>
                  <a:pt x="14585" y="14188"/>
                </a:moveTo>
                <a:cubicBezTo>
                  <a:pt x="14507" y="14374"/>
                  <a:pt x="14460" y="14557"/>
                  <a:pt x="14436" y="14759"/>
                </a:cubicBezTo>
                <a:cubicBezTo>
                  <a:pt x="14436" y="14803"/>
                  <a:pt x="14433" y="14823"/>
                  <a:pt x="14461" y="14784"/>
                </a:cubicBezTo>
              </a:path>
              <a:path w="5384" h="2209">
                <a:moveTo>
                  <a:pt x="14784" y="14213"/>
                </a:moveTo>
                <a:cubicBezTo>
                  <a:pt x="14871" y="14191"/>
                  <a:pt x="15161" y="14106"/>
                  <a:pt x="15131" y="14312"/>
                </a:cubicBezTo>
                <a:cubicBezTo>
                  <a:pt x="15109" y="14467"/>
                  <a:pt x="14916" y="14575"/>
                  <a:pt x="14808" y="14660"/>
                </a:cubicBezTo>
                <a:cubicBezTo>
                  <a:pt x="14800" y="14668"/>
                  <a:pt x="14792" y="14676"/>
                  <a:pt x="14784" y="14684"/>
                </a:cubicBezTo>
                <a:cubicBezTo>
                  <a:pt x="14911" y="14684"/>
                  <a:pt x="15031" y="14688"/>
                  <a:pt x="15156" y="14660"/>
                </a:cubicBezTo>
                <a:cubicBezTo>
                  <a:pt x="15223" y="14637"/>
                  <a:pt x="15241" y="14632"/>
                  <a:pt x="15280" y="14610"/>
                </a:cubicBezTo>
              </a:path>
              <a:path w="5384" h="2209">
                <a:moveTo>
                  <a:pt x="15850" y="13866"/>
                </a:moveTo>
                <a:cubicBezTo>
                  <a:pt x="15946" y="13972"/>
                  <a:pt x="16025" y="14088"/>
                  <a:pt x="16098" y="14213"/>
                </a:cubicBezTo>
                <a:cubicBezTo>
                  <a:pt x="16106" y="14230"/>
                  <a:pt x="16115" y="14246"/>
                  <a:pt x="16123" y="14263"/>
                </a:cubicBezTo>
              </a:path>
              <a:path w="5384" h="2209">
                <a:moveTo>
                  <a:pt x="16173" y="13816"/>
                </a:moveTo>
                <a:cubicBezTo>
                  <a:pt x="16091" y="13958"/>
                  <a:pt x="16008" y="14098"/>
                  <a:pt x="15925" y="14238"/>
                </a:cubicBezTo>
              </a:path>
              <a:path w="5384" h="2209">
                <a:moveTo>
                  <a:pt x="17190" y="13320"/>
                </a:moveTo>
                <a:cubicBezTo>
                  <a:pt x="17237" y="13236"/>
                  <a:pt x="17245" y="13274"/>
                  <a:pt x="17190" y="13196"/>
                </a:cubicBezTo>
                <a:cubicBezTo>
                  <a:pt x="17005" y="13222"/>
                  <a:pt x="16885" y="13292"/>
                  <a:pt x="16768" y="13444"/>
                </a:cubicBezTo>
                <a:cubicBezTo>
                  <a:pt x="16746" y="13488"/>
                  <a:pt x="16733" y="13500"/>
                  <a:pt x="16768" y="13519"/>
                </a:cubicBezTo>
                <a:cubicBezTo>
                  <a:pt x="16930" y="13488"/>
                  <a:pt x="17012" y="13411"/>
                  <a:pt x="17140" y="13295"/>
                </a:cubicBezTo>
                <a:cubicBezTo>
                  <a:pt x="17112" y="13465"/>
                  <a:pt x="17058" y="13676"/>
                  <a:pt x="16991" y="13841"/>
                </a:cubicBezTo>
                <a:cubicBezTo>
                  <a:pt x="16948" y="13906"/>
                  <a:pt x="16942" y="13926"/>
                  <a:pt x="16892" y="13940"/>
                </a:cubicBezTo>
              </a:path>
              <a:path w="5384" h="2209">
                <a:moveTo>
                  <a:pt x="16520" y="14064"/>
                </a:moveTo>
                <a:cubicBezTo>
                  <a:pt x="16754" y="14033"/>
                  <a:pt x="16978" y="14015"/>
                  <a:pt x="17214" y="14015"/>
                </a:cubicBezTo>
                <a:cubicBezTo>
                  <a:pt x="17222" y="14015"/>
                  <a:pt x="17231" y="14015"/>
                  <a:pt x="17239" y="14015"/>
                </a:cubicBezTo>
              </a:path>
              <a:path w="5384" h="2209">
                <a:moveTo>
                  <a:pt x="17115" y="14312"/>
                </a:moveTo>
                <a:cubicBezTo>
                  <a:pt x="17005" y="14319"/>
                  <a:pt x="16904" y="14337"/>
                  <a:pt x="16793" y="14337"/>
                </a:cubicBezTo>
                <a:cubicBezTo>
                  <a:pt x="16709" y="14337"/>
                  <a:pt x="16619" y="14490"/>
                  <a:pt x="16594" y="14560"/>
                </a:cubicBezTo>
                <a:cubicBezTo>
                  <a:pt x="16594" y="14585"/>
                  <a:pt x="16594" y="14593"/>
                  <a:pt x="16594" y="14610"/>
                </a:cubicBezTo>
                <a:cubicBezTo>
                  <a:pt x="16694" y="14610"/>
                  <a:pt x="16770" y="14579"/>
                  <a:pt x="16867" y="14560"/>
                </a:cubicBezTo>
                <a:cubicBezTo>
                  <a:pt x="17012" y="14531"/>
                  <a:pt x="17148" y="14599"/>
                  <a:pt x="17115" y="14784"/>
                </a:cubicBezTo>
                <a:cubicBezTo>
                  <a:pt x="17083" y="14963"/>
                  <a:pt x="16844" y="15025"/>
                  <a:pt x="16694" y="14982"/>
                </a:cubicBezTo>
                <a:cubicBezTo>
                  <a:pt x="16576" y="14911"/>
                  <a:pt x="16538" y="14892"/>
                  <a:pt x="16495" y="14808"/>
                </a:cubicBezTo>
              </a:path>
              <a:path w="5384" h="2209">
                <a:moveTo>
                  <a:pt x="17562" y="14089"/>
                </a:moveTo>
                <a:cubicBezTo>
                  <a:pt x="17694" y="14060"/>
                  <a:pt x="17822" y="14064"/>
                  <a:pt x="17959" y="14064"/>
                </a:cubicBezTo>
                <a:cubicBezTo>
                  <a:pt x="17993" y="14064"/>
                  <a:pt x="17997" y="14073"/>
                  <a:pt x="17959" y="14114"/>
                </a:cubicBezTo>
              </a:path>
              <a:path w="5384" h="2209">
                <a:moveTo>
                  <a:pt x="17661" y="14288"/>
                </a:moveTo>
                <a:cubicBezTo>
                  <a:pt x="17733" y="14282"/>
                  <a:pt x="17803" y="14272"/>
                  <a:pt x="17859" y="14288"/>
                </a:cubicBezTo>
              </a:path>
              <a:path w="5384" h="2209">
                <a:moveTo>
                  <a:pt x="19199" y="12948"/>
                </a:moveTo>
                <a:cubicBezTo>
                  <a:pt x="19282" y="13011"/>
                  <a:pt x="19273" y="12867"/>
                  <a:pt x="19248" y="12824"/>
                </a:cubicBezTo>
                <a:cubicBezTo>
                  <a:pt x="19156" y="12665"/>
                  <a:pt x="18906" y="12875"/>
                  <a:pt x="18852" y="12948"/>
                </a:cubicBezTo>
                <a:cubicBezTo>
                  <a:pt x="18809" y="13055"/>
                  <a:pt x="18786" y="13079"/>
                  <a:pt x="18827" y="13146"/>
                </a:cubicBezTo>
                <a:cubicBezTo>
                  <a:pt x="18970" y="13158"/>
                  <a:pt x="19097" y="13097"/>
                  <a:pt x="19199" y="12973"/>
                </a:cubicBezTo>
                <a:cubicBezTo>
                  <a:pt x="19199" y="12965"/>
                  <a:pt x="19199" y="12956"/>
                  <a:pt x="19199" y="12948"/>
                </a:cubicBezTo>
                <a:cubicBezTo>
                  <a:pt x="19199" y="13103"/>
                  <a:pt x="19133" y="13243"/>
                  <a:pt x="19100" y="13395"/>
                </a:cubicBezTo>
                <a:cubicBezTo>
                  <a:pt x="19080" y="13512"/>
                  <a:pt x="19086" y="13533"/>
                  <a:pt x="19050" y="13593"/>
                </a:cubicBezTo>
              </a:path>
              <a:path w="5384" h="2209">
                <a:moveTo>
                  <a:pt x="19794" y="12774"/>
                </a:moveTo>
                <a:cubicBezTo>
                  <a:pt x="19635" y="12801"/>
                  <a:pt x="19504" y="12924"/>
                  <a:pt x="19422" y="13072"/>
                </a:cubicBezTo>
                <a:cubicBezTo>
                  <a:pt x="19414" y="13105"/>
                  <a:pt x="19405" y="13138"/>
                  <a:pt x="19397" y="13171"/>
                </a:cubicBezTo>
                <a:cubicBezTo>
                  <a:pt x="19546" y="13204"/>
                  <a:pt x="19635" y="13101"/>
                  <a:pt x="19745" y="12998"/>
                </a:cubicBezTo>
                <a:cubicBezTo>
                  <a:pt x="19770" y="12973"/>
                  <a:pt x="19794" y="12948"/>
                  <a:pt x="19819" y="12923"/>
                </a:cubicBezTo>
                <a:cubicBezTo>
                  <a:pt x="19764" y="13088"/>
                  <a:pt x="19717" y="13252"/>
                  <a:pt x="19670" y="13419"/>
                </a:cubicBezTo>
                <a:cubicBezTo>
                  <a:pt x="19651" y="13477"/>
                  <a:pt x="19661" y="13502"/>
                  <a:pt x="19621" y="13494"/>
                </a:cubicBezTo>
              </a:path>
              <a:path w="5384" h="2209">
                <a:moveTo>
                  <a:pt x="18579" y="13742"/>
                </a:moveTo>
                <a:cubicBezTo>
                  <a:pt x="18864" y="13727"/>
                  <a:pt x="19137" y="13738"/>
                  <a:pt x="19422" y="13742"/>
                </a:cubicBezTo>
                <a:cubicBezTo>
                  <a:pt x="19513" y="13743"/>
                  <a:pt x="19604" y="13742"/>
                  <a:pt x="19695" y="13742"/>
                </a:cubicBezTo>
              </a:path>
              <a:path w="5384" h="2209">
                <a:moveTo>
                  <a:pt x="18951" y="14114"/>
                </a:moveTo>
                <a:cubicBezTo>
                  <a:pt x="19024" y="14041"/>
                  <a:pt x="18758" y="14304"/>
                  <a:pt x="18752" y="14312"/>
                </a:cubicBezTo>
                <a:cubicBezTo>
                  <a:pt x="18623" y="14462"/>
                  <a:pt x="18524" y="14541"/>
                  <a:pt x="18554" y="14734"/>
                </a:cubicBezTo>
                <a:cubicBezTo>
                  <a:pt x="18751" y="14712"/>
                  <a:pt x="18888" y="14664"/>
                  <a:pt x="19025" y="14511"/>
                </a:cubicBezTo>
                <a:cubicBezTo>
                  <a:pt x="19042" y="14486"/>
                  <a:pt x="19058" y="14461"/>
                  <a:pt x="19075" y="14436"/>
                </a:cubicBezTo>
                <a:cubicBezTo>
                  <a:pt x="19061" y="14357"/>
                  <a:pt x="18993" y="14369"/>
                  <a:pt x="18926" y="14436"/>
                </a:cubicBezTo>
                <a:cubicBezTo>
                  <a:pt x="18847" y="14515"/>
                  <a:pt x="18688" y="14655"/>
                  <a:pt x="18777" y="14709"/>
                </a:cubicBezTo>
              </a:path>
              <a:path w="5384" h="2209">
                <a:moveTo>
                  <a:pt x="19447" y="14163"/>
                </a:moveTo>
                <a:cubicBezTo>
                  <a:pt x="19308" y="14209"/>
                  <a:pt x="19225" y="14367"/>
                  <a:pt x="19174" y="14511"/>
                </a:cubicBezTo>
                <a:cubicBezTo>
                  <a:pt x="19151" y="14627"/>
                  <a:pt x="19140" y="14660"/>
                  <a:pt x="19174" y="14734"/>
                </a:cubicBezTo>
                <a:cubicBezTo>
                  <a:pt x="19373" y="14763"/>
                  <a:pt x="19515" y="14717"/>
                  <a:pt x="19596" y="14511"/>
                </a:cubicBezTo>
                <a:cubicBezTo>
                  <a:pt x="19660" y="14348"/>
                  <a:pt x="19602" y="14233"/>
                  <a:pt x="19447" y="14188"/>
                </a:cubicBezTo>
                <a:cubicBezTo>
                  <a:pt x="19439" y="14188"/>
                  <a:pt x="19430" y="14188"/>
                  <a:pt x="19422" y="1418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66080" y="4616280"/>
            <a:ext cx="1106640" cy="1152720"/>
          </a:xfrm>
          <a:custGeom>
            <a:avLst/>
            <a:gdLst/>
            <a:ahLst/>
            <a:rect l="l" t="t" r="r" b="b"/>
            <a:pathLst>
              <a:path w="3077" h="3201">
                <a:moveTo>
                  <a:pt x="22448" y="13593"/>
                </a:moveTo>
                <a:cubicBezTo>
                  <a:pt x="22409" y="13554"/>
                  <a:pt x="22573" y="13568"/>
                  <a:pt x="22622" y="13568"/>
                </a:cubicBezTo>
                <a:cubicBezTo>
                  <a:pt x="22657" y="13639"/>
                  <a:pt x="22592" y="13712"/>
                  <a:pt x="22523" y="13767"/>
                </a:cubicBezTo>
                <a:cubicBezTo>
                  <a:pt x="22459" y="13809"/>
                  <a:pt x="22448" y="13825"/>
                  <a:pt x="22399" y="13816"/>
                </a:cubicBezTo>
                <a:cubicBezTo>
                  <a:pt x="22481" y="13783"/>
                  <a:pt x="22558" y="13733"/>
                  <a:pt x="22622" y="13866"/>
                </a:cubicBezTo>
                <a:cubicBezTo>
                  <a:pt x="22688" y="14003"/>
                  <a:pt x="22523" y="14073"/>
                  <a:pt x="22423" y="14064"/>
                </a:cubicBezTo>
                <a:cubicBezTo>
                  <a:pt x="22306" y="14054"/>
                  <a:pt x="22280" y="14007"/>
                  <a:pt x="22250" y="13915"/>
                </a:cubicBezTo>
              </a:path>
              <a:path w="3077" h="3201">
                <a:moveTo>
                  <a:pt x="23019" y="13568"/>
                </a:moveTo>
                <a:cubicBezTo>
                  <a:pt x="22921" y="13617"/>
                  <a:pt x="22887" y="13652"/>
                  <a:pt x="22820" y="13742"/>
                </a:cubicBezTo>
                <a:cubicBezTo>
                  <a:pt x="22902" y="13791"/>
                  <a:pt x="22981" y="13782"/>
                  <a:pt x="23044" y="13692"/>
                </a:cubicBezTo>
                <a:cubicBezTo>
                  <a:pt x="23063" y="13635"/>
                  <a:pt x="23071" y="13628"/>
                  <a:pt x="23068" y="13593"/>
                </a:cubicBezTo>
                <a:cubicBezTo>
                  <a:pt x="23068" y="13719"/>
                  <a:pt x="23024" y="13820"/>
                  <a:pt x="22994" y="13940"/>
                </a:cubicBezTo>
                <a:cubicBezTo>
                  <a:pt x="22973" y="14024"/>
                  <a:pt x="22977" y="14095"/>
                  <a:pt x="22920" y="14139"/>
                </a:cubicBezTo>
              </a:path>
              <a:path w="3077" h="3201">
                <a:moveTo>
                  <a:pt x="22299" y="14188"/>
                </a:moveTo>
                <a:cubicBezTo>
                  <a:pt x="22513" y="14161"/>
                  <a:pt x="22752" y="14134"/>
                  <a:pt x="22969" y="14163"/>
                </a:cubicBezTo>
                <a:cubicBezTo>
                  <a:pt x="23030" y="14183"/>
                  <a:pt x="23045" y="14202"/>
                  <a:pt x="23068" y="14163"/>
                </a:cubicBezTo>
              </a:path>
              <a:path w="3077" h="3201">
                <a:moveTo>
                  <a:pt x="22423" y="14560"/>
                </a:moveTo>
                <a:cubicBezTo>
                  <a:pt x="22394" y="14472"/>
                  <a:pt x="22271" y="14703"/>
                  <a:pt x="22250" y="14734"/>
                </a:cubicBezTo>
                <a:cubicBezTo>
                  <a:pt x="22178" y="14842"/>
                  <a:pt x="22144" y="14911"/>
                  <a:pt x="22126" y="15032"/>
                </a:cubicBezTo>
                <a:cubicBezTo>
                  <a:pt x="22268" y="15111"/>
                  <a:pt x="22368" y="15048"/>
                  <a:pt x="22498" y="14957"/>
                </a:cubicBezTo>
                <a:cubicBezTo>
                  <a:pt x="22540" y="14928"/>
                  <a:pt x="22562" y="14900"/>
                  <a:pt x="22572" y="14858"/>
                </a:cubicBezTo>
                <a:cubicBezTo>
                  <a:pt x="22450" y="14858"/>
                  <a:pt x="22352" y="14871"/>
                  <a:pt x="22275" y="14982"/>
                </a:cubicBezTo>
                <a:cubicBezTo>
                  <a:pt x="22209" y="15077"/>
                  <a:pt x="22246" y="15074"/>
                  <a:pt x="22299" y="15056"/>
                </a:cubicBezTo>
              </a:path>
              <a:path w="3077" h="3201">
                <a:moveTo>
                  <a:pt x="22820" y="14635"/>
                </a:moveTo>
                <a:cubicBezTo>
                  <a:pt x="22734" y="14732"/>
                  <a:pt x="22633" y="14855"/>
                  <a:pt x="22597" y="14982"/>
                </a:cubicBezTo>
                <a:cubicBezTo>
                  <a:pt x="22597" y="15055"/>
                  <a:pt x="22596" y="15079"/>
                  <a:pt x="22647" y="15106"/>
                </a:cubicBezTo>
                <a:cubicBezTo>
                  <a:pt x="22810" y="15076"/>
                  <a:pt x="22938" y="15007"/>
                  <a:pt x="22944" y="14808"/>
                </a:cubicBezTo>
                <a:cubicBezTo>
                  <a:pt x="22947" y="14703"/>
                  <a:pt x="22873" y="14655"/>
                  <a:pt x="22796" y="14610"/>
                </a:cubicBezTo>
              </a:path>
              <a:path w="3077" h="3201">
                <a:moveTo>
                  <a:pt x="23217" y="14486"/>
                </a:moveTo>
                <a:cubicBezTo>
                  <a:pt x="23306" y="14446"/>
                  <a:pt x="23368" y="14436"/>
                  <a:pt x="23465" y="14436"/>
                </a:cubicBezTo>
                <a:cubicBezTo>
                  <a:pt x="23473" y="14436"/>
                  <a:pt x="23482" y="14436"/>
                  <a:pt x="23490" y="14436"/>
                </a:cubicBezTo>
              </a:path>
              <a:path w="3077" h="3201">
                <a:moveTo>
                  <a:pt x="23168" y="14684"/>
                </a:moveTo>
                <a:cubicBezTo>
                  <a:pt x="23251" y="14684"/>
                  <a:pt x="23333" y="14684"/>
                  <a:pt x="23416" y="14684"/>
                </a:cubicBezTo>
              </a:path>
              <a:path w="3077" h="3201">
                <a:moveTo>
                  <a:pt x="23986" y="13791"/>
                </a:moveTo>
                <a:cubicBezTo>
                  <a:pt x="23986" y="13690"/>
                  <a:pt x="23951" y="13939"/>
                  <a:pt x="23937" y="14039"/>
                </a:cubicBezTo>
                <a:cubicBezTo>
                  <a:pt x="23897" y="14328"/>
                  <a:pt x="23884" y="14620"/>
                  <a:pt x="23837" y="14908"/>
                </a:cubicBezTo>
                <a:cubicBezTo>
                  <a:pt x="23823" y="14994"/>
                  <a:pt x="23812" y="15047"/>
                  <a:pt x="23812" y="15131"/>
                </a:cubicBezTo>
              </a:path>
              <a:path w="3077" h="3201">
                <a:moveTo>
                  <a:pt x="23242" y="13519"/>
                </a:moveTo>
                <a:cubicBezTo>
                  <a:pt x="23309" y="13474"/>
                  <a:pt x="23390" y="13454"/>
                  <a:pt x="23465" y="13419"/>
                </a:cubicBezTo>
                <a:cubicBezTo>
                  <a:pt x="23506" y="13399"/>
                  <a:pt x="23512" y="13391"/>
                  <a:pt x="23540" y="13395"/>
                </a:cubicBezTo>
              </a:path>
              <a:path w="3077" h="3201">
                <a:moveTo>
                  <a:pt x="23366" y="13221"/>
                </a:moveTo>
                <a:cubicBezTo>
                  <a:pt x="23374" y="13238"/>
                  <a:pt x="23383" y="13254"/>
                  <a:pt x="23391" y="13271"/>
                </a:cubicBezTo>
              </a:path>
              <a:path w="3077" h="3201">
                <a:moveTo>
                  <a:pt x="23440" y="13717"/>
                </a:moveTo>
                <a:lnTo>
                  <a:pt x="23440" y="13717"/>
                </a:lnTo>
              </a:path>
              <a:path w="3077" h="3201">
                <a:moveTo>
                  <a:pt x="22944" y="15255"/>
                </a:moveTo>
                <a:cubicBezTo>
                  <a:pt x="23045" y="15280"/>
                  <a:pt x="23051" y="15311"/>
                  <a:pt x="23093" y="15404"/>
                </a:cubicBezTo>
                <a:cubicBezTo>
                  <a:pt x="23114" y="15450"/>
                  <a:pt x="23109" y="15492"/>
                  <a:pt x="23143" y="15503"/>
                </a:cubicBezTo>
              </a:path>
              <a:path w="3077" h="3201">
                <a:moveTo>
                  <a:pt x="23242" y="15156"/>
                </a:moveTo>
                <a:cubicBezTo>
                  <a:pt x="23242" y="15085"/>
                  <a:pt x="23202" y="15166"/>
                  <a:pt x="23192" y="15180"/>
                </a:cubicBezTo>
              </a:path>
              <a:path w="3077" h="3201">
                <a:moveTo>
                  <a:pt x="22870" y="15602"/>
                </a:moveTo>
                <a:lnTo>
                  <a:pt x="22870" y="15602"/>
                </a:lnTo>
                <a:lnTo>
                  <a:pt x="22870" y="15602"/>
                </a:lnTo>
              </a:path>
              <a:path w="3077" h="3201">
                <a:moveTo>
                  <a:pt x="24631" y="13618"/>
                </a:moveTo>
                <a:cubicBezTo>
                  <a:pt x="24654" y="13595"/>
                  <a:pt x="24662" y="13591"/>
                  <a:pt x="24656" y="13568"/>
                </a:cubicBezTo>
                <a:cubicBezTo>
                  <a:pt x="24690" y="13653"/>
                  <a:pt x="24611" y="13864"/>
                  <a:pt x="24581" y="13990"/>
                </a:cubicBezTo>
                <a:cubicBezTo>
                  <a:pt x="24548" y="14131"/>
                  <a:pt x="24482" y="14164"/>
                  <a:pt x="24631" y="13965"/>
                </a:cubicBezTo>
              </a:path>
              <a:path w="3077" h="3201">
                <a:moveTo>
                  <a:pt x="24929" y="13543"/>
                </a:moveTo>
                <a:cubicBezTo>
                  <a:pt x="24979" y="13522"/>
                  <a:pt x="25074" y="13492"/>
                  <a:pt x="25127" y="13519"/>
                </a:cubicBezTo>
                <a:cubicBezTo>
                  <a:pt x="25144" y="13535"/>
                  <a:pt x="25160" y="13552"/>
                  <a:pt x="25177" y="13568"/>
                </a:cubicBezTo>
                <a:cubicBezTo>
                  <a:pt x="25144" y="13718"/>
                  <a:pt x="25062" y="13735"/>
                  <a:pt x="24929" y="13791"/>
                </a:cubicBezTo>
                <a:cubicBezTo>
                  <a:pt x="24912" y="13799"/>
                  <a:pt x="24896" y="13808"/>
                  <a:pt x="24879" y="13816"/>
                </a:cubicBezTo>
                <a:cubicBezTo>
                  <a:pt x="24944" y="13800"/>
                  <a:pt x="24988" y="13756"/>
                  <a:pt x="25053" y="13841"/>
                </a:cubicBezTo>
                <a:cubicBezTo>
                  <a:pt x="25148" y="13965"/>
                  <a:pt x="24990" y="14110"/>
                  <a:pt x="24879" y="14139"/>
                </a:cubicBezTo>
                <a:cubicBezTo>
                  <a:pt x="24741" y="14175"/>
                  <a:pt x="24717" y="14098"/>
                  <a:pt x="24705" y="13990"/>
                </a:cubicBezTo>
              </a:path>
              <a:path w="3077" h="3201">
                <a:moveTo>
                  <a:pt x="24408" y="14461"/>
                </a:moveTo>
                <a:cubicBezTo>
                  <a:pt x="24582" y="14422"/>
                  <a:pt x="24751" y="14393"/>
                  <a:pt x="24929" y="14387"/>
                </a:cubicBezTo>
                <a:cubicBezTo>
                  <a:pt x="24973" y="14387"/>
                  <a:pt x="24987" y="14384"/>
                  <a:pt x="25003" y="14412"/>
                </a:cubicBezTo>
              </a:path>
              <a:path w="3077" h="3201">
                <a:moveTo>
                  <a:pt x="24358" y="14858"/>
                </a:moveTo>
                <a:cubicBezTo>
                  <a:pt x="24419" y="14838"/>
                  <a:pt x="24564" y="14759"/>
                  <a:pt x="24606" y="14858"/>
                </a:cubicBezTo>
                <a:cubicBezTo>
                  <a:pt x="24659" y="14982"/>
                  <a:pt x="24462" y="15125"/>
                  <a:pt x="24383" y="15180"/>
                </a:cubicBezTo>
                <a:cubicBezTo>
                  <a:pt x="24296" y="15224"/>
                  <a:pt x="24272" y="15231"/>
                  <a:pt x="24234" y="15280"/>
                </a:cubicBezTo>
                <a:cubicBezTo>
                  <a:pt x="24346" y="15280"/>
                  <a:pt x="24395" y="15268"/>
                  <a:pt x="24507" y="15230"/>
                </a:cubicBezTo>
                <a:cubicBezTo>
                  <a:pt x="24574" y="15207"/>
                  <a:pt x="24592" y="15202"/>
                  <a:pt x="24631" y="15180"/>
                </a:cubicBezTo>
              </a:path>
              <a:path w="3077" h="3201">
                <a:moveTo>
                  <a:pt x="24904" y="14932"/>
                </a:moveTo>
                <a:cubicBezTo>
                  <a:pt x="24798" y="14972"/>
                  <a:pt x="24766" y="15059"/>
                  <a:pt x="24755" y="15180"/>
                </a:cubicBezTo>
                <a:cubicBezTo>
                  <a:pt x="24742" y="15325"/>
                  <a:pt x="24916" y="15287"/>
                  <a:pt x="25003" y="15255"/>
                </a:cubicBezTo>
                <a:cubicBezTo>
                  <a:pt x="25107" y="15217"/>
                  <a:pt x="25279" y="15087"/>
                  <a:pt x="25177" y="14957"/>
                </a:cubicBezTo>
                <a:cubicBezTo>
                  <a:pt x="25091" y="14893"/>
                  <a:pt x="25074" y="14868"/>
                  <a:pt x="25003" y="14883"/>
                </a:cubicBezTo>
              </a:path>
              <a:path w="3077" h="3201">
                <a:moveTo>
                  <a:pt x="23912" y="12898"/>
                </a:moveTo>
                <a:cubicBezTo>
                  <a:pt x="24095" y="12876"/>
                  <a:pt x="23890" y="12886"/>
                  <a:pt x="23986" y="12898"/>
                </a:cubicBezTo>
                <a:cubicBezTo>
                  <a:pt x="24039" y="12904"/>
                  <a:pt x="24023" y="12910"/>
                  <a:pt x="24061" y="12923"/>
                </a:cubicBezTo>
                <a:cubicBezTo>
                  <a:pt x="24053" y="12899"/>
                  <a:pt x="24010" y="12877"/>
                  <a:pt x="23986" y="12874"/>
                </a:cubicBezTo>
                <a:cubicBezTo>
                  <a:pt x="23961" y="12874"/>
                  <a:pt x="23953" y="12874"/>
                  <a:pt x="23937" y="12874"/>
                </a:cubicBezTo>
                <a:cubicBezTo>
                  <a:pt x="23956" y="12888"/>
                  <a:pt x="24007" y="12919"/>
                  <a:pt x="24036" y="12898"/>
                </a:cubicBezTo>
                <a:cubicBezTo>
                  <a:pt x="24087" y="12862"/>
                  <a:pt x="24082" y="12837"/>
                  <a:pt x="24135" y="12824"/>
                </a:cubicBezTo>
                <a:cubicBezTo>
                  <a:pt x="24135" y="12932"/>
                  <a:pt x="24085" y="12970"/>
                  <a:pt x="24011" y="13047"/>
                </a:cubicBezTo>
                <a:cubicBezTo>
                  <a:pt x="23994" y="13064"/>
                  <a:pt x="23978" y="13080"/>
                  <a:pt x="23961" y="13097"/>
                </a:cubicBezTo>
                <a:cubicBezTo>
                  <a:pt x="24013" y="13097"/>
                  <a:pt x="24107" y="13064"/>
                  <a:pt x="24110" y="13146"/>
                </a:cubicBezTo>
                <a:cubicBezTo>
                  <a:pt x="24114" y="13251"/>
                  <a:pt x="23987" y="13441"/>
                  <a:pt x="23862" y="13395"/>
                </a:cubicBezTo>
                <a:cubicBezTo>
                  <a:pt x="23748" y="13354"/>
                  <a:pt x="23839" y="13228"/>
                  <a:pt x="23862" y="13171"/>
                </a:cubicBezTo>
              </a:path>
              <a:path w="3077" h="3201">
                <a:moveTo>
                  <a:pt x="23812" y="15652"/>
                </a:moveTo>
                <a:cubicBezTo>
                  <a:pt x="23812" y="15615"/>
                  <a:pt x="23727" y="15617"/>
                  <a:pt x="23688" y="15602"/>
                </a:cubicBezTo>
              </a:path>
              <a:path w="3077" h="3201">
                <a:moveTo>
                  <a:pt x="23416" y="15602"/>
                </a:moveTo>
                <a:cubicBezTo>
                  <a:pt x="23350" y="15602"/>
                  <a:pt x="23523" y="15574"/>
                  <a:pt x="23540" y="15577"/>
                </a:cubicBezTo>
                <a:cubicBezTo>
                  <a:pt x="23565" y="15585"/>
                  <a:pt x="23589" y="15594"/>
                  <a:pt x="23614" y="15602"/>
                </a:cubicBezTo>
                <a:cubicBezTo>
                  <a:pt x="23601" y="15744"/>
                  <a:pt x="23542" y="15809"/>
                  <a:pt x="23391" y="15850"/>
                </a:cubicBezTo>
                <a:cubicBezTo>
                  <a:pt x="23333" y="15850"/>
                  <a:pt x="23325" y="15850"/>
                  <a:pt x="23292" y="15850"/>
                </a:cubicBezTo>
                <a:cubicBezTo>
                  <a:pt x="23372" y="15834"/>
                  <a:pt x="23490" y="15798"/>
                  <a:pt x="23515" y="15925"/>
                </a:cubicBezTo>
                <a:cubicBezTo>
                  <a:pt x="23507" y="15950"/>
                  <a:pt x="23498" y="15974"/>
                  <a:pt x="23490" y="15999"/>
                </a:cubicBezTo>
                <a:cubicBezTo>
                  <a:pt x="23348" y="16038"/>
                  <a:pt x="23188" y="16023"/>
                  <a:pt x="23044" y="15974"/>
                </a:cubicBezTo>
                <a:cubicBezTo>
                  <a:pt x="22947" y="15927"/>
                  <a:pt x="22914" y="15914"/>
                  <a:pt x="22944" y="15825"/>
                </a:cubicBezTo>
              </a:path>
              <a:path w="3077" h="3201">
                <a:moveTo>
                  <a:pt x="25177" y="13072"/>
                </a:moveTo>
                <a:cubicBezTo>
                  <a:pt x="25040" y="13012"/>
                  <a:pt x="24909" y="12960"/>
                  <a:pt x="24755" y="12973"/>
                </a:cubicBezTo>
                <a:cubicBezTo>
                  <a:pt x="24537" y="12991"/>
                  <a:pt x="24331" y="13031"/>
                  <a:pt x="24135" y="13122"/>
                </a:cubicBezTo>
                <a:cubicBezTo>
                  <a:pt x="23886" y="13237"/>
                  <a:pt x="23751" y="13486"/>
                  <a:pt x="23614" y="13717"/>
                </a:cubicBezTo>
                <a:cubicBezTo>
                  <a:pt x="23437" y="14016"/>
                  <a:pt x="23278" y="14325"/>
                  <a:pt x="23316" y="14684"/>
                </a:cubicBezTo>
                <a:cubicBezTo>
                  <a:pt x="23341" y="14923"/>
                  <a:pt x="23420" y="15227"/>
                  <a:pt x="23664" y="15329"/>
                </a:cubicBezTo>
                <a:cubicBezTo>
                  <a:pt x="23891" y="15424"/>
                  <a:pt x="24215" y="15425"/>
                  <a:pt x="24457" y="15404"/>
                </a:cubicBezTo>
                <a:cubicBezTo>
                  <a:pt x="24635" y="15389"/>
                  <a:pt x="24765" y="15330"/>
                  <a:pt x="24879" y="152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42120" y="3714840"/>
            <a:ext cx="1187640" cy="446040"/>
          </a:xfrm>
          <a:custGeom>
            <a:avLst/>
            <a:gdLst/>
            <a:ahLst/>
            <a:rect l="l" t="t" r="r" b="b"/>
            <a:pathLst>
              <a:path w="3300" h="1241">
                <a:moveTo>
                  <a:pt x="22175" y="10691"/>
                </a:moveTo>
                <a:cubicBezTo>
                  <a:pt x="22265" y="10669"/>
                  <a:pt x="22266" y="10543"/>
                  <a:pt x="22225" y="10468"/>
                </a:cubicBezTo>
                <a:cubicBezTo>
                  <a:pt x="22200" y="10443"/>
                  <a:pt x="22176" y="10418"/>
                  <a:pt x="22151" y="10393"/>
                </a:cubicBezTo>
                <a:cubicBezTo>
                  <a:pt x="21999" y="10402"/>
                  <a:pt x="21784" y="10496"/>
                  <a:pt x="21803" y="10716"/>
                </a:cubicBezTo>
                <a:cubicBezTo>
                  <a:pt x="21820" y="10741"/>
                  <a:pt x="21836" y="10765"/>
                  <a:pt x="21853" y="10790"/>
                </a:cubicBezTo>
                <a:cubicBezTo>
                  <a:pt x="22065" y="10804"/>
                  <a:pt x="22109" y="10705"/>
                  <a:pt x="22275" y="10592"/>
                </a:cubicBezTo>
                <a:cubicBezTo>
                  <a:pt x="22283" y="10592"/>
                  <a:pt x="22291" y="10592"/>
                  <a:pt x="22299" y="10592"/>
                </a:cubicBezTo>
                <a:cubicBezTo>
                  <a:pt x="22241" y="10756"/>
                  <a:pt x="22171" y="10919"/>
                  <a:pt x="22126" y="11088"/>
                </a:cubicBezTo>
                <a:cubicBezTo>
                  <a:pt x="22117" y="11122"/>
                  <a:pt x="22044" y="11370"/>
                  <a:pt x="22126" y="11261"/>
                </a:cubicBezTo>
              </a:path>
              <a:path w="3300" h="1241">
                <a:moveTo>
                  <a:pt x="22895" y="10468"/>
                </a:moveTo>
                <a:cubicBezTo>
                  <a:pt x="22895" y="10451"/>
                  <a:pt x="22895" y="10435"/>
                  <a:pt x="22895" y="10418"/>
                </a:cubicBezTo>
                <a:cubicBezTo>
                  <a:pt x="22772" y="10336"/>
                  <a:pt x="22632" y="10416"/>
                  <a:pt x="22547" y="10542"/>
                </a:cubicBezTo>
                <a:cubicBezTo>
                  <a:pt x="22448" y="10688"/>
                  <a:pt x="22496" y="10754"/>
                  <a:pt x="22572" y="10864"/>
                </a:cubicBezTo>
                <a:cubicBezTo>
                  <a:pt x="22786" y="10839"/>
                  <a:pt x="22868" y="10788"/>
                  <a:pt x="22920" y="10567"/>
                </a:cubicBezTo>
                <a:cubicBezTo>
                  <a:pt x="22920" y="10525"/>
                  <a:pt x="22920" y="10517"/>
                  <a:pt x="22920" y="10492"/>
                </a:cubicBezTo>
                <a:cubicBezTo>
                  <a:pt x="22843" y="10713"/>
                  <a:pt x="22770" y="10934"/>
                  <a:pt x="22721" y="11162"/>
                </a:cubicBezTo>
                <a:cubicBezTo>
                  <a:pt x="22708" y="11221"/>
                  <a:pt x="22702" y="11374"/>
                  <a:pt x="22647" y="11336"/>
                </a:cubicBezTo>
              </a:path>
              <a:path w="3300" h="1241">
                <a:moveTo>
                  <a:pt x="21555" y="11559"/>
                </a:moveTo>
                <a:cubicBezTo>
                  <a:pt x="21514" y="11356"/>
                  <a:pt x="21526" y="11146"/>
                  <a:pt x="21506" y="10939"/>
                </a:cubicBezTo>
                <a:cubicBezTo>
                  <a:pt x="21492" y="10798"/>
                  <a:pt x="21459" y="10649"/>
                  <a:pt x="21406" y="10517"/>
                </a:cubicBezTo>
                <a:cubicBezTo>
                  <a:pt x="21399" y="10501"/>
                  <a:pt x="21364" y="10440"/>
                  <a:pt x="21382" y="10418"/>
                </a:cubicBezTo>
                <a:cubicBezTo>
                  <a:pt x="21487" y="10292"/>
                  <a:pt x="21686" y="10312"/>
                  <a:pt x="21828" y="10319"/>
                </a:cubicBezTo>
                <a:cubicBezTo>
                  <a:pt x="22229" y="10338"/>
                  <a:pt x="22619" y="10445"/>
                  <a:pt x="23019" y="10468"/>
                </a:cubicBezTo>
                <a:cubicBezTo>
                  <a:pt x="23150" y="10475"/>
                  <a:pt x="23285" y="10468"/>
                  <a:pt x="23416" y="10468"/>
                </a:cubicBezTo>
              </a:path>
              <a:path w="3300" h="1241">
                <a:moveTo>
                  <a:pt x="20538" y="10567"/>
                </a:moveTo>
                <a:cubicBezTo>
                  <a:pt x="20375" y="10588"/>
                  <a:pt x="20347" y="10712"/>
                  <a:pt x="20265" y="10840"/>
                </a:cubicBezTo>
                <a:cubicBezTo>
                  <a:pt x="20203" y="10938"/>
                  <a:pt x="20004" y="11206"/>
                  <a:pt x="20191" y="11311"/>
                </a:cubicBezTo>
                <a:cubicBezTo>
                  <a:pt x="20390" y="11423"/>
                  <a:pt x="20630" y="11195"/>
                  <a:pt x="20712" y="11038"/>
                </a:cubicBezTo>
                <a:cubicBezTo>
                  <a:pt x="20731" y="10964"/>
                  <a:pt x="20739" y="10957"/>
                  <a:pt x="20737" y="10914"/>
                </a:cubicBezTo>
                <a:cubicBezTo>
                  <a:pt x="20551" y="10943"/>
                  <a:pt x="20451" y="11062"/>
                  <a:pt x="20365" y="11237"/>
                </a:cubicBezTo>
                <a:cubicBezTo>
                  <a:pt x="20344" y="11321"/>
                  <a:pt x="20322" y="11347"/>
                  <a:pt x="20389" y="11361"/>
                </a:cubicBezTo>
              </a:path>
              <a:path w="3300" h="1241">
                <a:moveTo>
                  <a:pt x="20960" y="10815"/>
                </a:moveTo>
                <a:cubicBezTo>
                  <a:pt x="20834" y="10940"/>
                  <a:pt x="20801" y="11037"/>
                  <a:pt x="20811" y="11212"/>
                </a:cubicBezTo>
                <a:cubicBezTo>
                  <a:pt x="20938" y="11280"/>
                  <a:pt x="21111" y="11287"/>
                  <a:pt x="21183" y="11112"/>
                </a:cubicBezTo>
                <a:cubicBezTo>
                  <a:pt x="21276" y="10886"/>
                  <a:pt x="21006" y="10864"/>
                  <a:pt x="20886" y="108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 Students will multiply fractions and mixed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#1 rolls 2 dice (one becomes numerator, the other denomin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#2 doe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fractions.  Be sure to record your work on your paper – it will be turned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swers to be sure you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completing as many problems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¾ x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½ x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4/5 x  1  3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2:22:27Z</dcterms:created>
  <dc:creator>ccps</dc:creator>
  <dc:description/>
  <dc:language>en-US</dc:language>
  <cp:lastModifiedBy>ccps</cp:lastModifiedBy>
  <dcterms:modified xsi:type="dcterms:W3CDTF">2010-03-26T17:48:17Z</dcterms:modified>
  <cp:revision>4</cp:revision>
  <dc:subject/>
  <dc:title>Warm-up:</dc:title>
</cp:coreProperties>
</file>